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0.wmf" ContentType="image/x-wmf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  <p:sldId id="279" r:id="rId44"/>
    <p:sldId id="280" r:id="rId45"/>
    <p:sldId id="281" r:id="rId46"/>
    <p:sldId id="282" r:id="rId47"/>
    <p:sldId id="283" r:id="rId48"/>
    <p:sldId id="284" r:id="rId49"/>
    <p:sldId id="285" r:id="rId50"/>
    <p:sldId id="286" r:id="rId51"/>
    <p:sldId id="287" r:id="rId52"/>
    <p:sldId id="288" r:id="rId53"/>
    <p:sldId id="289" r:id="rId54"/>
    <p:sldId id="290" r:id="rId55"/>
    <p:sldId id="291" r:id="rId56"/>
    <p:sldId id="292" r:id="rId57"/>
    <p:sldId id="293" r:id="rId58"/>
    <p:sldId id="294" r:id="rId59"/>
    <p:sldId id="295" r:id="rId60"/>
    <p:sldId id="296" r:id="rId61"/>
    <p:sldId id="297" r:id="rId62"/>
    <p:sldId id="298" r:id="rId63"/>
    <p:sldId id="299" r:id="rId64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slide" Target="slides/slide24.xml"/><Relationship Id="rId45" Type="http://schemas.openxmlformats.org/officeDocument/2006/relationships/slide" Target="slides/slide25.xml"/><Relationship Id="rId46" Type="http://schemas.openxmlformats.org/officeDocument/2006/relationships/slide" Target="slides/slide26.xml"/><Relationship Id="rId47" Type="http://schemas.openxmlformats.org/officeDocument/2006/relationships/slide" Target="slides/slide27.xml"/><Relationship Id="rId48" Type="http://schemas.openxmlformats.org/officeDocument/2006/relationships/slide" Target="slides/slide28.xml"/><Relationship Id="rId49" Type="http://schemas.openxmlformats.org/officeDocument/2006/relationships/slide" Target="slides/slide29.xml"/><Relationship Id="rId50" Type="http://schemas.openxmlformats.org/officeDocument/2006/relationships/slide" Target="slides/slide30.xml"/><Relationship Id="rId51" Type="http://schemas.openxmlformats.org/officeDocument/2006/relationships/slide" Target="slides/slide31.xml"/><Relationship Id="rId52" Type="http://schemas.openxmlformats.org/officeDocument/2006/relationships/slide" Target="slides/slide32.xml"/><Relationship Id="rId53" Type="http://schemas.openxmlformats.org/officeDocument/2006/relationships/slide" Target="slides/slide33.xml"/><Relationship Id="rId54" Type="http://schemas.openxmlformats.org/officeDocument/2006/relationships/slide" Target="slides/slide34.xml"/><Relationship Id="rId55" Type="http://schemas.openxmlformats.org/officeDocument/2006/relationships/slide" Target="slides/slide35.xml"/><Relationship Id="rId56" Type="http://schemas.openxmlformats.org/officeDocument/2006/relationships/slide" Target="slides/slide36.xml"/><Relationship Id="rId57" Type="http://schemas.openxmlformats.org/officeDocument/2006/relationships/slide" Target="slides/slide37.xml"/><Relationship Id="rId58" Type="http://schemas.openxmlformats.org/officeDocument/2006/relationships/slide" Target="slides/slide38.xml"/><Relationship Id="rId59" Type="http://schemas.openxmlformats.org/officeDocument/2006/relationships/slide" Target="slides/slide39.xml"/><Relationship Id="rId60" Type="http://schemas.openxmlformats.org/officeDocument/2006/relationships/slide" Target="slides/slide40.xml"/><Relationship Id="rId61" Type="http://schemas.openxmlformats.org/officeDocument/2006/relationships/slide" Target="slides/slide41.xml"/><Relationship Id="rId62" Type="http://schemas.openxmlformats.org/officeDocument/2006/relationships/slide" Target="slides/slide42.xml"/><Relationship Id="rId63" Type="http://schemas.openxmlformats.org/officeDocument/2006/relationships/slide" Target="slides/slide43.xml"/><Relationship Id="rId64" Type="http://schemas.openxmlformats.org/officeDocument/2006/relationships/slide" Target="slides/slide44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 type="dt" idx="46"/>
          </p:nvPr>
        </p:nvSpPr>
        <p:spPr>
          <a:xfrm>
            <a:off x="385128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 type="ftr" idx="47"/>
          </p:nvPr>
        </p:nvSpPr>
        <p:spPr>
          <a:xfrm>
            <a:off x="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Komponent Regional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 type="sldNum" idx="48"/>
          </p:nvPr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2A9590A-1A79-4ACA-B1D5-2AAF1C5CD54B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CB5E8DC-E6A4-431A-AA6A-D47D6EF299DB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53B47C8C-2E49-4CBE-8F6E-B70121AA4CAC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4B299EE8-EA0C-4FE3-A86E-9D5E774B3FE6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1D7D1E14-E916-4FCC-AE93-D4F966028082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268BB8E1-5259-4282-8DBA-51A03FACA85C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411121C4-A47F-4B4D-A415-0A27FA835CC9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2EE5C619-6B66-4958-97E6-9C41C0F96853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2D1B75F0-2BFA-483F-B91F-70A8E5D6EE42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AF9672A0-6D46-43F1-A8D5-185CDED9E472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1829BB36-C727-47D1-86E3-F3AA6A5B403E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A723A808-2BC6-4AF6-8B09-AFEA2948629D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C03729BF-1935-4E83-8D9E-756164F104F3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850F8D10-512D-4D51-B279-2AFE7AD7EF74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C9373C66-2DE3-46CC-87DD-487B900AD911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114B1706-1CD6-45F2-BA9F-AC308840E6DD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60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7F710D70-B134-4ECD-BCA6-3308449564EF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652195CE-A476-4B58-8D7F-0CD213513810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12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A3698D94-0DAA-4876-9EB8-55E77A5C3678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03AC5C4C-9D7E-47BE-8B96-0913506941F7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691E0-20F5-4382-A25E-6F6D06CFE1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2F5DD-93B1-4C03-8215-B620C3193E02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26F74B-D3F7-4405-80FD-3B7C85363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6FCEB5-8A3D-461C-9A79-F74ED07E4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F6534E-D296-4E4B-AA1E-1CD29A57E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464E30-AB81-47AF-9939-6690620B8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7A5164-E6A1-4FEF-BC4D-A1A15218A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6220E7-143C-4C7C-9207-AAFEA9465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6E23B4-B96F-46BB-AD55-56CE30763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A5FB77-CCC7-4A2D-A3AC-2E5157275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B2B78E-5BB0-4483-B7BA-9B19EBDF2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5809D2-0902-4DE5-BF34-C45746195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F1D0F-106B-4BF7-B2BB-031140EAA16C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2828F9-39BF-4FBB-9E8B-6ED5F38A3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C47BE5-C3E4-41FB-AB58-F292A962B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FB3D32-1BF8-4C56-88D5-E2E4ED98E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94BEF8-F17B-4CAF-95AB-FC1155650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FAE4BD-BD55-484D-9A0B-20F5EBB8F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87F027-FD60-462B-8CDA-79DCBE6E5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11BD49-19E5-4F9B-99E0-50A73B0C8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359833-6645-456B-BAA7-677E497FB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38EF36-5AD3-4C1C-858C-B4DCDCAC6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C2769A-09E7-4669-91A5-23BF4AB35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91827-1661-4B06-82FB-EEF7914003A0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6D4F00-93FB-4AAA-95BB-6FF2D7917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37946E-E82E-43D3-9F4A-5B383DD61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A1F61C-2628-4236-9845-424D473A1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57FDD8-C2BF-47EB-9AE3-861CD26C8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E05734-6BFE-49F7-A542-E2CA57898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D5D5AB-7D36-4D1E-ABB4-E3147ADF2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FF4D7B-201D-41F4-AD4F-51C271C79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ED5734-9F8A-48D4-98EE-3C9685FD2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8D689E-E522-4F00-9330-01C4AB016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3DC78A-6DAF-468A-BFA8-7BA572EF5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389170-C2B4-48FA-93B5-2B61C651F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A49ED5-8595-45F4-8B92-528DD188F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44A433-CF0B-4B25-9F24-61EFF123E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2AAAC8-8831-4019-87C6-737EB23F7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098F80-59D0-41ED-998D-306B36801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81C08B-AE9F-42E7-BAA6-2388974FE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30C1F3-5C88-4E99-9F10-74C6D0B6E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FADC19-F90E-4B2F-88D1-67CB15C83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7D7170-BA74-416C-8A38-308AA4AAB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BE08C7-8ADD-4AA6-B4FD-6D2672C25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984534-C0FB-4406-AC89-1FA5C2B7A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A20C57-C20C-4441-8FF9-EC9BEABA4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1349FB-F1FF-4320-8E71-9F0EC35F0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EF0400-9C09-4F00-83DA-5D087BFEF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F7FC5A-9ABC-4470-A510-A7E7EEF7A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DD6F5C-A440-4090-A875-E9E6B0B5D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52FD5C-57FE-4390-AF9E-378A9F6F0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1D42A5-1DE2-4AA7-AFCC-7FF0BF90C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043804-583E-4375-B331-91BB1C114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A2577E-67C6-4AB6-894E-7F16ABE6C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BD9AD8-2E42-48E8-8949-298E2F890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2EEB0A-D2DD-4A5D-B995-148F53D4E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860542-0A1B-4E3E-949D-E01DC6145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CD0A0D-DA4F-4129-A01A-B3CDDD8E4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489456-02D2-4723-AFDA-1633B06C9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DD607F-BE0B-474B-B662-C09310665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861410-79A2-413A-91D8-28BD3FD5B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DCD613-9930-4F55-A969-E38A67F9C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694D14-59A4-4511-9A20-8FE76E03E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998FF1-A20D-43FE-A9F2-07B1A88C1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1B55E5-62F1-4AC0-9C8D-70AAFCF9B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9F7E38-C01E-43AD-990C-F7C80FB94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51AC93-E9A6-4D11-868E-0105B967B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062961-5364-4D7A-BBE1-51A403EF6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FB7D60-AB63-4176-94D6-29BA60E99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6B122D-5310-4F81-91A9-8E959079C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9356F7-E556-49D7-B984-7E0BBF023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978544-97E3-43B9-BABD-96905FFB3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7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8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C35F46-B07B-420E-B864-272EFA75F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BB9151-53D8-4460-960C-E75CCB919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4A2C65-F630-48A0-952D-F5D19C3A8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411348-7150-4915-A4C3-C5F640732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C2C335-6ED1-4564-93BA-E7A860F02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CA6156-8598-4DE2-A615-DDE7594D8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52F0F6-7A14-45CE-A7CF-D710EE78E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2A9AFC-637E-463F-A77A-353D0C688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9528CF-10D6-4503-8460-B2B29A103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9AFFB6-1BB8-4524-862A-30F1F1CB4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FDCBC3-396E-4B75-A467-648840105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DA69AF-B835-4FBE-AFE6-D2FBCA259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894767-DF49-4746-A685-A4603C4FB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DBF5FC-45CE-4BC1-8BD5-DD7463C96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D1E04D-6875-43A0-BFCD-B582689EA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C7DE6B-CA90-45BB-B282-0BFDD3F41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0587E4-A5D4-478E-BA2E-DE7D04A96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313697-F3C3-43C5-8D8B-E4AA922A2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A4982D-4AE9-4DF8-920A-2C1445F83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5B1EFD-3C5F-4446-8708-9FF8030B3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5015B9-1250-4C53-9070-B04E5435E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F4E504-D2DB-405D-B743-57037205A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7A6765-34FF-49B6-AB00-C9536CF82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DC961D-8500-4FAC-A016-243E99617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3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4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871772-02AA-4067-8F2C-2AA18BF02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66E6C1-4F7F-46B3-8E6E-ED17292A1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C2B305-37A3-4C4F-8D79-31171E150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1775CF-2B9C-4326-9742-FAB03C990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10C7A5-4B16-48A3-9547-5AE233E89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B38EDA-820C-4D7A-B22B-454177906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E7563F-EDB3-4432-A0E2-202614855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278A6B-74C2-477E-9249-1BC63337F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052CC-9E6B-423F-B3EE-15A0A8636A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9A21DA-7E8F-464D-BE53-5A3C2824A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117F4D-46CB-41A8-B310-1EF221EBB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FA1286-364C-41A0-91FF-5BD8B34C2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D6071F-6B76-4C0C-9CEF-B08EA737B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1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2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22567C-015D-4AB5-80C0-B73A16889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52D554-E0AE-4316-A088-4C0D6A4B4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ECFB24-FABD-4A6A-8C38-BEC09E862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4678B9-C88C-4B49-90B5-F8DFD6D8A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A2D3A0-A24C-4AE9-9051-9976DA72E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3F369A-DAB0-48E9-866E-84CCC73D7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80117C-20AC-4F12-80D3-AA544BD1D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1DB41B-4D31-4FFD-BDCB-9F0A40973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DC73B7-79EA-424C-867C-167E114B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5AE78C-66B1-44BD-8D8E-CC1F93532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04B4AD-2D93-4A76-ABAB-3D4790A0F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348AA2-2C03-4831-9830-30A78EDCB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42F3CE-4141-45CF-8623-E755E2D1B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D5DD44-D478-44CA-B916-E4DE2009A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001B18-3BBB-48E2-AF48-E5D8F3078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6433AB-60AC-428C-8863-2509CE5C9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5C8529-61E9-455E-A378-245AC6FDD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A71D42-C29B-4861-AFC4-E37185273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AF665-8E91-4232-A6C9-75B684101A3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5E0B6E-BE02-487F-A084-62FDC8593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501AAE-E5B8-411C-8D6E-A55E7BB48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9E851E-B433-4828-8FF1-124C8B13A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3F0FB5-EC91-49AD-94F7-98C7C6E82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472A8B-9601-414A-A3B6-938C07F53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904FBE-EBCA-469C-93B9-5C69BC45F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5FD1D1-4E60-4A16-8BA9-BC9144AAE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85125-C992-4860-8534-E37003CFB6E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BACADA-36D1-450D-8AE0-C8CBDF888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39E8B-7F2A-4773-AF61-C1781CEB682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6F5A85-1B44-429A-A1E3-BBED31C03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645E2C-DB19-474D-A21C-6B997B258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73E877-7F86-46D1-8AA2-2B809685D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1E0FE9-966B-4D8C-902B-E1DAB75F8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294CDD-1D8C-49EB-B6FC-AF781AE89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A060B0-0D00-4DCD-A427-D9C8EE82A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D3577C-EA8F-47A3-ABB3-0EB125FE9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7562C3-692B-4303-BB32-60941CBA4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655AED-892D-489B-A693-5712B4272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DD806A-422F-4CDD-A890-9CC98E999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6EBC9-B70C-44D3-A05A-54BB717868A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72C5B7-32B9-4F36-A844-73ED6A49E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51B798-46AE-4B2D-9830-01604E5503C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B02BD5-1B80-4FB8-94D2-D0A57372B41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A5390E-7C68-4370-807D-76F6E4106E8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AEC97F-00F0-4329-8CAE-55190E733F7F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70E045-7BEF-4706-A3FA-AB541BE2A25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B6C3BF-8854-4BC0-8EEE-860A7299B1D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889CBA-6A4D-4FD8-BE3D-D5D533227F7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EFB68D-524E-43CA-88CC-4C88C050CC7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F2B043-A91D-489D-AAAE-1FE374D234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AEC12-51D4-4138-963A-526C9B5DA41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F61584-A3DA-4CC7-8BFC-4E84F9838F6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84DD45-C652-404D-8A3C-55DCED9188B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5FA73D-85CD-43CE-AB68-E5C924731B12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234A8-6D88-47C2-946A-68EB02C58E4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DF8EF-9D27-4406-9956-B7C075697CA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7D3E6-1D7B-411C-A0C0-B0CA445A1A6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2897A-D4A6-46C4-A794-AE0D697E9B7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42A90-B4E7-4656-B28F-62562C2A8CD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E63DC-84B0-469E-B2C0-5834A5DE6E31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977E4-8D27-4196-8329-4B5D7847CC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A59DB-6A19-46B8-83B1-9661BE123BD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B688E-13CE-4775-840D-26C01BCEB7C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DFA78-EB38-4A80-B796-8B1FDBA028D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EE8CD-46CA-406C-9F6E-61C9A344251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30D5F6-2433-4620-B10A-B886B83FEF6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9AA63-2DD3-4CB7-A772-0A384765E4C0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D4E68F-0BBC-4581-8A42-35A942176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1BD04E-F4E4-4020-8DBE-0BEC8CBE7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40522D-2D4B-4D8F-B701-701C095F6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B2833E-F813-493A-BC0B-0D1FE0BCE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74B7F3-5870-45A6-8BFE-9F9B107D5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B1A15-0E96-4CE6-B301-759134488F55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97B327-C44E-4AF8-A40C-D300FA45D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490F9F-2748-4BF6-90E4-4F747EC39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39FCD3-A181-4373-91E4-D3934B122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02BF5D-5401-4C83-89E1-988FACC94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DF4D54-D486-4722-A3F5-30F050016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871402-5AF0-4AB8-8527-BBAF1C299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FD9C1D-96A6-464B-9166-4906D897D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57A8AE-B18C-4984-AF63-E55744A40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E5FAC3-1D6C-4840-9DAE-C1232FAA2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4AD4BC-0376-4AED-A3EA-832A5D07D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wzorzec"/>
          <p:cNvPicPr/>
          <p:nvPr/>
        </p:nvPicPr>
        <p:blipFill>
          <a:blip r:embed="rId2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wzorzec"/>
          <p:cNvPicPr/>
          <p:nvPr/>
        </p:nvPicPr>
        <p:blipFill>
          <a:blip r:embed="rId3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Komponent Central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1D296-6F2A-488A-A9C7-36FDBE1F12B2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Obraz 8" descr="AkademiaNFZ_logo.jpg"/>
          <p:cNvPicPr/>
          <p:nvPr/>
        </p:nvPicPr>
        <p:blipFill>
          <a:blip r:embed="rId4"/>
          <a:stretch/>
        </p:blipFill>
        <p:spPr>
          <a:xfrm>
            <a:off x="584280" y="6143760"/>
            <a:ext cx="2012760" cy="598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ounded Rectangle 13"/>
          <p:cNvSpPr/>
          <p:nvPr/>
        </p:nvSpPr>
        <p:spPr>
          <a:xfrm>
            <a:off x="247680" y="228600"/>
            <a:ext cx="942012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14"/>
          <p:cNvSpPr/>
          <p:nvPr/>
        </p:nvSpPr>
        <p:spPr>
          <a:xfrm>
            <a:off x="6551640" y="4203720"/>
            <a:ext cx="311616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eform 18"/>
          <p:cNvSpPr/>
          <p:nvPr/>
        </p:nvSpPr>
        <p:spPr>
          <a:xfrm>
            <a:off x="2836800" y="4075200"/>
            <a:ext cx="600732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22"/>
          <p:cNvSpPr/>
          <p:nvPr/>
        </p:nvSpPr>
        <p:spPr>
          <a:xfrm>
            <a:off x="3063960" y="4087800"/>
            <a:ext cx="59245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reeform 26"/>
          <p:cNvSpPr/>
          <p:nvPr/>
        </p:nvSpPr>
        <p:spPr>
          <a:xfrm>
            <a:off x="6076800" y="4073400"/>
            <a:ext cx="358308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reeform 10"/>
          <p:cNvSpPr/>
          <p:nvPr/>
        </p:nvSpPr>
        <p:spPr>
          <a:xfrm>
            <a:off x="228600" y="4059360"/>
            <a:ext cx="945036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dt" idx="19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CACC3-3166-4373-85F8-4B92B4821825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ftr" idx="20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 type="sldNum" idx="21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57B28-988C-4507-895C-5E167492698B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449" name="Freeform 14"/>
            <p:cNvSpPr/>
            <p:nvPr/>
          </p:nvSpPr>
          <p:spPr>
            <a:xfrm>
              <a:off x="6550920" y="1824480"/>
              <a:ext cx="311616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8"/>
            <p:cNvSpPr/>
            <p:nvPr/>
          </p:nvSpPr>
          <p:spPr>
            <a:xfrm>
              <a:off x="2836800" y="1695960"/>
              <a:ext cx="600660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22"/>
            <p:cNvSpPr/>
            <p:nvPr/>
          </p:nvSpPr>
          <p:spPr>
            <a:xfrm>
              <a:off x="3063600" y="1708200"/>
              <a:ext cx="592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26"/>
            <p:cNvSpPr/>
            <p:nvPr/>
          </p:nvSpPr>
          <p:spPr>
            <a:xfrm>
              <a:off x="6076440" y="1694880"/>
              <a:ext cx="358380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2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DA56A-CDF4-41D2-9B7B-639AEF0C8859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3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4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7A661-7E36-4656-B981-9BC86CF848F8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497" name="Freeform 14"/>
            <p:cNvSpPr/>
            <p:nvPr/>
          </p:nvSpPr>
          <p:spPr>
            <a:xfrm>
              <a:off x="6550920" y="1824480"/>
              <a:ext cx="311616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18"/>
            <p:cNvSpPr/>
            <p:nvPr/>
          </p:nvSpPr>
          <p:spPr>
            <a:xfrm>
              <a:off x="2836800" y="1695960"/>
              <a:ext cx="600660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22"/>
            <p:cNvSpPr/>
            <p:nvPr/>
          </p:nvSpPr>
          <p:spPr>
            <a:xfrm>
              <a:off x="3063600" y="1708200"/>
              <a:ext cx="592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26"/>
            <p:cNvSpPr/>
            <p:nvPr/>
          </p:nvSpPr>
          <p:spPr>
            <a:xfrm>
              <a:off x="6076440" y="1694880"/>
              <a:ext cx="358380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dt" idx="25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3092A-1D0E-4D17-8F88-0D9D040EB8D9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ftr" idx="26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sldNum" idx="27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003B9-D088-464A-9E68-0C1D8725FFA6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545" name="Freeform 14"/>
            <p:cNvSpPr/>
            <p:nvPr/>
          </p:nvSpPr>
          <p:spPr>
            <a:xfrm>
              <a:off x="6550920" y="1824480"/>
              <a:ext cx="311616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18"/>
            <p:cNvSpPr/>
            <p:nvPr/>
          </p:nvSpPr>
          <p:spPr>
            <a:xfrm>
              <a:off x="2836800" y="1695960"/>
              <a:ext cx="600660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22"/>
            <p:cNvSpPr/>
            <p:nvPr/>
          </p:nvSpPr>
          <p:spPr>
            <a:xfrm>
              <a:off x="3063600" y="1708200"/>
              <a:ext cx="592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26"/>
            <p:cNvSpPr/>
            <p:nvPr/>
          </p:nvSpPr>
          <p:spPr>
            <a:xfrm>
              <a:off x="6076440" y="1694880"/>
              <a:ext cx="358380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28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1BD93-1CEB-4826-86B6-5004CE34047F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29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30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B4E7B-68A0-4F6A-82FC-ABCAE5B19A66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ounded Rectangle 11"/>
          <p:cNvSpPr/>
          <p:nvPr/>
        </p:nvSpPr>
        <p:spPr>
          <a:xfrm>
            <a:off x="247680" y="228600"/>
            <a:ext cx="942012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" name="Group 5"/>
          <p:cNvGrpSpPr/>
          <p:nvPr/>
        </p:nvGrpSpPr>
        <p:grpSpPr>
          <a:xfrm>
            <a:off x="228600" y="714240"/>
            <a:ext cx="9450360" cy="1330560"/>
            <a:chOff x="228600" y="714240"/>
            <a:chExt cx="9450360" cy="1330560"/>
          </a:xfrm>
        </p:grpSpPr>
        <p:sp>
          <p:nvSpPr>
            <p:cNvPr id="593" name="Freeform 14"/>
            <p:cNvSpPr/>
            <p:nvPr/>
          </p:nvSpPr>
          <p:spPr>
            <a:xfrm>
              <a:off x="6550920" y="859320"/>
              <a:ext cx="311616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18"/>
            <p:cNvSpPr/>
            <p:nvPr/>
          </p:nvSpPr>
          <p:spPr>
            <a:xfrm>
              <a:off x="2836800" y="730800"/>
              <a:ext cx="600660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22"/>
            <p:cNvSpPr/>
            <p:nvPr/>
          </p:nvSpPr>
          <p:spPr>
            <a:xfrm>
              <a:off x="3063600" y="743040"/>
              <a:ext cx="592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26"/>
            <p:cNvSpPr/>
            <p:nvPr/>
          </p:nvSpPr>
          <p:spPr>
            <a:xfrm>
              <a:off x="6076440" y="729720"/>
              <a:ext cx="358380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10"/>
            <p:cNvSpPr/>
            <p:nvPr/>
          </p:nvSpPr>
          <p:spPr>
            <a:xfrm>
              <a:off x="228600" y="71424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 type="dt" idx="31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2D352-D9CE-4AA0-B335-2169820B9977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 type="ftr" idx="32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 type="sldNum" idx="33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DBD0D-95AB-46D1-885B-BB4F0950B57A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ounded Rectangle 14"/>
          <p:cNvSpPr/>
          <p:nvPr/>
        </p:nvSpPr>
        <p:spPr>
          <a:xfrm>
            <a:off x="247680" y="228600"/>
            <a:ext cx="942012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0" name="Group 23"/>
          <p:cNvGrpSpPr/>
          <p:nvPr/>
        </p:nvGrpSpPr>
        <p:grpSpPr>
          <a:xfrm>
            <a:off x="228600" y="714240"/>
            <a:ext cx="9450360" cy="1332000"/>
            <a:chOff x="228600" y="714240"/>
            <a:chExt cx="9450360" cy="1332000"/>
          </a:xfrm>
        </p:grpSpPr>
        <p:sp>
          <p:nvSpPr>
            <p:cNvPr id="641" name="Freeform 14"/>
            <p:cNvSpPr/>
            <p:nvPr/>
          </p:nvSpPr>
          <p:spPr>
            <a:xfrm>
              <a:off x="6558840" y="859320"/>
              <a:ext cx="312012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18"/>
            <p:cNvSpPr/>
            <p:nvPr/>
          </p:nvSpPr>
          <p:spPr>
            <a:xfrm>
              <a:off x="2840040" y="730800"/>
              <a:ext cx="601416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22"/>
            <p:cNvSpPr/>
            <p:nvPr/>
          </p:nvSpPr>
          <p:spPr>
            <a:xfrm>
              <a:off x="3067200" y="743040"/>
              <a:ext cx="593136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26"/>
            <p:cNvSpPr/>
            <p:nvPr/>
          </p:nvSpPr>
          <p:spPr>
            <a:xfrm>
              <a:off x="6083640" y="729720"/>
              <a:ext cx="358812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28"/>
            <p:cNvSpPr/>
            <p:nvPr/>
          </p:nvSpPr>
          <p:spPr>
            <a:xfrm>
              <a:off x="228600" y="714240"/>
              <a:ext cx="945036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dt" idx="34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D95A1-9848-442D-AEA3-F22B37407D58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ftr" idx="35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 type="sldNum" idx="36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DE2CB-B639-4BC3-AFF8-31F7FF2D7ADD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ounded Rectangle 14"/>
          <p:cNvSpPr/>
          <p:nvPr/>
        </p:nvSpPr>
        <p:spPr>
          <a:xfrm>
            <a:off x="247680" y="228600"/>
            <a:ext cx="942012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8" name="Group 8"/>
          <p:cNvGrpSpPr/>
          <p:nvPr/>
        </p:nvGrpSpPr>
        <p:grpSpPr>
          <a:xfrm>
            <a:off x="228600" y="5354640"/>
            <a:ext cx="9450360" cy="1330200"/>
            <a:chOff x="228600" y="5354640"/>
            <a:chExt cx="9450360" cy="1330200"/>
          </a:xfrm>
        </p:grpSpPr>
        <p:sp>
          <p:nvSpPr>
            <p:cNvPr id="689" name="Freeform 14"/>
            <p:cNvSpPr/>
            <p:nvPr/>
          </p:nvSpPr>
          <p:spPr>
            <a:xfrm>
              <a:off x="6558840" y="5499720"/>
              <a:ext cx="312012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18"/>
            <p:cNvSpPr/>
            <p:nvPr/>
          </p:nvSpPr>
          <p:spPr>
            <a:xfrm>
              <a:off x="2840040" y="5371200"/>
              <a:ext cx="601416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22"/>
            <p:cNvSpPr/>
            <p:nvPr/>
          </p:nvSpPr>
          <p:spPr>
            <a:xfrm>
              <a:off x="3067200" y="5383440"/>
              <a:ext cx="593136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26"/>
            <p:cNvSpPr/>
            <p:nvPr/>
          </p:nvSpPr>
          <p:spPr>
            <a:xfrm>
              <a:off x="6083640" y="5370120"/>
              <a:ext cx="358812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0"/>
            <p:cNvSpPr/>
            <p:nvPr/>
          </p:nvSpPr>
          <p:spPr>
            <a:xfrm>
              <a:off x="228600" y="5354640"/>
              <a:ext cx="945036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 type="dt" idx="37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99F9F-10D1-4582-BA7C-CF1503975B4C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 type="ftr" idx="38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 type="sldNum" idx="39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5B4A8-BEA4-4719-8AAA-23A84C6BB883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6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737" name="Freeform 14"/>
            <p:cNvSpPr/>
            <p:nvPr/>
          </p:nvSpPr>
          <p:spPr>
            <a:xfrm>
              <a:off x="6550920" y="1824480"/>
              <a:ext cx="311616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18"/>
            <p:cNvSpPr/>
            <p:nvPr/>
          </p:nvSpPr>
          <p:spPr>
            <a:xfrm>
              <a:off x="2836800" y="1695960"/>
              <a:ext cx="600660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22"/>
            <p:cNvSpPr/>
            <p:nvPr/>
          </p:nvSpPr>
          <p:spPr>
            <a:xfrm>
              <a:off x="3063600" y="1708200"/>
              <a:ext cx="592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26"/>
            <p:cNvSpPr/>
            <p:nvPr/>
          </p:nvSpPr>
          <p:spPr>
            <a:xfrm>
              <a:off x="6076440" y="1694880"/>
              <a:ext cx="358380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 type="dt" idx="40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50196-107F-4BB0-8597-BDC1E5337AA0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 type="ftr" idx="41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 type="sldNum" idx="42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19FAE-62C2-4AC1-B3FA-8D9D9D8DD30A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ounded Rectangle 20"/>
          <p:cNvSpPr/>
          <p:nvPr/>
        </p:nvSpPr>
        <p:spPr>
          <a:xfrm>
            <a:off x="247680" y="228600"/>
            <a:ext cx="942012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Group 14"/>
          <p:cNvGrpSpPr/>
          <p:nvPr/>
        </p:nvGrpSpPr>
        <p:grpSpPr>
          <a:xfrm>
            <a:off x="228600" y="714240"/>
            <a:ext cx="9450360" cy="1332000"/>
            <a:chOff x="228600" y="714240"/>
            <a:chExt cx="9450360" cy="1332000"/>
          </a:xfrm>
        </p:grpSpPr>
        <p:sp>
          <p:nvSpPr>
            <p:cNvPr id="785" name="Freeform 14"/>
            <p:cNvSpPr/>
            <p:nvPr/>
          </p:nvSpPr>
          <p:spPr>
            <a:xfrm>
              <a:off x="6558840" y="859320"/>
              <a:ext cx="312012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18"/>
            <p:cNvSpPr/>
            <p:nvPr/>
          </p:nvSpPr>
          <p:spPr>
            <a:xfrm>
              <a:off x="2840040" y="730800"/>
              <a:ext cx="601416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22"/>
            <p:cNvSpPr/>
            <p:nvPr/>
          </p:nvSpPr>
          <p:spPr>
            <a:xfrm>
              <a:off x="3067200" y="743040"/>
              <a:ext cx="593136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26"/>
            <p:cNvSpPr/>
            <p:nvPr/>
          </p:nvSpPr>
          <p:spPr>
            <a:xfrm>
              <a:off x="6083640" y="729720"/>
              <a:ext cx="358812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19"/>
            <p:cNvSpPr/>
            <p:nvPr/>
          </p:nvSpPr>
          <p:spPr>
            <a:xfrm>
              <a:off x="228600" y="714240"/>
              <a:ext cx="945036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43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D1CA1-AF0B-4733-8829-AC50F5D4A4EA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44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45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5D80F-51C9-4C68-8391-DCB83161C848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prezentacja_podtytul"/>
          <p:cNvPicPr/>
          <p:nvPr/>
        </p:nvPicPr>
        <p:blipFill>
          <a:blip r:embed="rId2"/>
          <a:stretch/>
        </p:blipFill>
        <p:spPr>
          <a:xfrm>
            <a:off x="-203040" y="-139680"/>
            <a:ext cx="10312200" cy="7137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639800" y="1600200"/>
            <a:ext cx="77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84" name="Freeform 14"/>
            <p:cNvSpPr/>
            <p:nvPr/>
          </p:nvSpPr>
          <p:spPr>
            <a:xfrm>
              <a:off x="6550920" y="1824480"/>
              <a:ext cx="311616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18"/>
            <p:cNvSpPr/>
            <p:nvPr/>
          </p:nvSpPr>
          <p:spPr>
            <a:xfrm>
              <a:off x="2836800" y="1695960"/>
              <a:ext cx="600660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22"/>
            <p:cNvSpPr/>
            <p:nvPr/>
          </p:nvSpPr>
          <p:spPr>
            <a:xfrm>
              <a:off x="3063600" y="1708200"/>
              <a:ext cx="592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26"/>
            <p:cNvSpPr/>
            <p:nvPr/>
          </p:nvSpPr>
          <p:spPr>
            <a:xfrm>
              <a:off x="6076440" y="1694880"/>
              <a:ext cx="358380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3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F60E8-2563-4081-AE22-CA7734E97111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4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Komponent Central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5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D573D-07D5-4E75-A350-DC45E3BB0706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8" descr="wzorzec"/>
          <p:cNvPicPr/>
          <p:nvPr/>
        </p:nvPicPr>
        <p:blipFill>
          <a:blip r:embed="rId2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wzorzec"/>
          <p:cNvPicPr/>
          <p:nvPr/>
        </p:nvPicPr>
        <p:blipFill>
          <a:blip r:embed="rId3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132" name="Obraz 8" descr="AkademiaNFZ_logo.jpg"/>
          <p:cNvPicPr/>
          <p:nvPr/>
        </p:nvPicPr>
        <p:blipFill>
          <a:blip r:embed="rId4"/>
          <a:stretch/>
        </p:blipFill>
        <p:spPr>
          <a:xfrm>
            <a:off x="584280" y="6143760"/>
            <a:ext cx="2012760" cy="5983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prezentacja_podtytul"/>
          <p:cNvPicPr/>
          <p:nvPr/>
        </p:nvPicPr>
        <p:blipFill>
          <a:blip r:embed="rId5"/>
          <a:stretch/>
        </p:blipFill>
        <p:spPr>
          <a:xfrm>
            <a:off x="-203040" y="-139680"/>
            <a:ext cx="10312200" cy="713736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8" descr="wzorzec"/>
          <p:cNvPicPr/>
          <p:nvPr/>
        </p:nvPicPr>
        <p:blipFill>
          <a:blip r:embed="rId2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" descr="wzorzec"/>
          <p:cNvPicPr/>
          <p:nvPr/>
        </p:nvPicPr>
        <p:blipFill>
          <a:blip r:embed="rId3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174" name="Obraz 8" descr="AkademiaNFZ_logo.jpg"/>
          <p:cNvPicPr/>
          <p:nvPr/>
        </p:nvPicPr>
        <p:blipFill>
          <a:blip r:embed="rId4"/>
          <a:stretch/>
        </p:blipFill>
        <p:spPr>
          <a:xfrm>
            <a:off x="584280" y="6143760"/>
            <a:ext cx="2012760" cy="5983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8" descr="prezentacja_tytul"/>
          <p:cNvPicPr/>
          <p:nvPr/>
        </p:nvPicPr>
        <p:blipFill>
          <a:blip r:embed="rId5"/>
          <a:stretch/>
        </p:blipFill>
        <p:spPr>
          <a:xfrm>
            <a:off x="0" y="1440"/>
            <a:ext cx="9906120" cy="68551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znak_KAPITAL_LUDZKI"/>
          <p:cNvPicPr/>
          <p:nvPr/>
        </p:nvPicPr>
        <p:blipFill>
          <a:blip r:embed="rId6"/>
          <a:stretch/>
        </p:blipFill>
        <p:spPr>
          <a:xfrm>
            <a:off x="2143080" y="4716360"/>
            <a:ext cx="3457800" cy="16830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6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7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Komponent Central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8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8" descr="wzorzec"/>
          <p:cNvPicPr/>
          <p:nvPr/>
        </p:nvPicPr>
        <p:blipFill>
          <a:blip r:embed="rId2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" descr="wzorzec"/>
          <p:cNvPicPr/>
          <p:nvPr/>
        </p:nvPicPr>
        <p:blipFill>
          <a:blip r:embed="rId3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220" name="Obraz 8" descr="AkademiaNFZ_logo.jpg"/>
          <p:cNvPicPr/>
          <p:nvPr/>
        </p:nvPicPr>
        <p:blipFill>
          <a:blip r:embed="rId4"/>
          <a:stretch/>
        </p:blipFill>
        <p:spPr>
          <a:xfrm>
            <a:off x="584280" y="6143760"/>
            <a:ext cx="2012760" cy="59832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ftr" idx="9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Komponent Central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sldNum" idx="10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8" descr="wzorzec"/>
          <p:cNvPicPr/>
          <p:nvPr/>
        </p:nvPicPr>
        <p:blipFill>
          <a:blip r:embed="rId2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" descr="wzorzec"/>
          <p:cNvPicPr/>
          <p:nvPr/>
        </p:nvPicPr>
        <p:blipFill>
          <a:blip r:embed="rId3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263" name="Obraz 8" descr="AkademiaNFZ_logo.jpg"/>
          <p:cNvPicPr/>
          <p:nvPr/>
        </p:nvPicPr>
        <p:blipFill>
          <a:blip r:embed="rId4"/>
          <a:stretch/>
        </p:blipFill>
        <p:spPr>
          <a:xfrm>
            <a:off x="584280" y="6143760"/>
            <a:ext cx="2012760" cy="59832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ftr" idx="11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Komponent Central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sldNum" idx="12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ounded Rectangle 15"/>
          <p:cNvSpPr/>
          <p:nvPr/>
        </p:nvSpPr>
        <p:spPr>
          <a:xfrm>
            <a:off x="247680" y="228600"/>
            <a:ext cx="942012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Group 9"/>
          <p:cNvGrpSpPr/>
          <p:nvPr/>
        </p:nvGrpSpPr>
        <p:grpSpPr>
          <a:xfrm>
            <a:off x="228600" y="5354640"/>
            <a:ext cx="9450360" cy="1330200"/>
            <a:chOff x="228600" y="5354640"/>
            <a:chExt cx="9450360" cy="1330200"/>
          </a:xfrm>
        </p:grpSpPr>
        <p:sp>
          <p:nvSpPr>
            <p:cNvPr id="306" name="Freeform 14"/>
            <p:cNvSpPr/>
            <p:nvPr/>
          </p:nvSpPr>
          <p:spPr>
            <a:xfrm>
              <a:off x="6558840" y="5499720"/>
              <a:ext cx="312012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8"/>
            <p:cNvSpPr/>
            <p:nvPr/>
          </p:nvSpPr>
          <p:spPr>
            <a:xfrm>
              <a:off x="2840040" y="5371200"/>
              <a:ext cx="601416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22"/>
            <p:cNvSpPr/>
            <p:nvPr/>
          </p:nvSpPr>
          <p:spPr>
            <a:xfrm>
              <a:off x="3067200" y="5383440"/>
              <a:ext cx="593136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6"/>
            <p:cNvSpPr/>
            <p:nvPr/>
          </p:nvSpPr>
          <p:spPr>
            <a:xfrm>
              <a:off x="6083640" y="5370120"/>
              <a:ext cx="358812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0"/>
            <p:cNvSpPr/>
            <p:nvPr/>
          </p:nvSpPr>
          <p:spPr>
            <a:xfrm>
              <a:off x="228600" y="5354640"/>
              <a:ext cx="945036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13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84E0D-4ADE-4E82-82E7-ED45834A71A7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14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15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69D68-D935-4600-8369-A4E71FD379CC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354" name="Freeform 14"/>
            <p:cNvSpPr/>
            <p:nvPr/>
          </p:nvSpPr>
          <p:spPr>
            <a:xfrm>
              <a:off x="6550920" y="1824480"/>
              <a:ext cx="311616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18"/>
            <p:cNvSpPr/>
            <p:nvPr/>
          </p:nvSpPr>
          <p:spPr>
            <a:xfrm>
              <a:off x="2836800" y="1695960"/>
              <a:ext cx="600660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3063600" y="1708200"/>
              <a:ext cx="592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26"/>
            <p:cNvSpPr/>
            <p:nvPr/>
          </p:nvSpPr>
          <p:spPr>
            <a:xfrm>
              <a:off x="6076440" y="1694880"/>
              <a:ext cx="358380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16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485C6-66F4-4C79-94AD-C31238319024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17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18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12241-472E-4413-A15A-2C7D40BE51FB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5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72880" y="259920"/>
            <a:ext cx="8855280" cy="626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pl-PL" sz="4000" spc="-1" strike="noStrike">
                <a:solidFill>
                  <a:srgbClr val="ffffff"/>
                </a:solidFill>
                <a:latin typeface="Candara"/>
              </a:rPr>
              <a:t>Zasady kontraktowania </a:t>
            </a:r>
            <a:br>
              <a:rPr sz="4000"/>
            </a:br>
            <a:r>
              <a:rPr b="0" lang="pl-PL" sz="4000" spc="-1" strike="noStrike">
                <a:solidFill>
                  <a:srgbClr val="ffffff"/>
                </a:solidFill>
                <a:latin typeface="Candara"/>
              </a:rPr>
              <a:t>świadczeń opieki zdrowotnej</a:t>
            </a:r>
            <a:br>
              <a:rPr sz="4000"/>
            </a:br>
            <a:r>
              <a:rPr b="0" lang="pl-PL" sz="4000" spc="-1" strike="noStrike">
                <a:solidFill>
                  <a:srgbClr val="ffffff"/>
                </a:solidFill>
                <a:latin typeface="Candara"/>
              </a:rPr>
              <a:t>2019  </a:t>
            </a:r>
            <a:br>
              <a:rPr sz="4000"/>
            </a:br>
            <a:br>
              <a:rPr sz="4000"/>
            </a:br>
            <a:r>
              <a:rPr b="0" lang="pl-PL" sz="2200" spc="-1" strike="noStrike" u="sng">
                <a:solidFill>
                  <a:srgbClr val="ffffff"/>
                </a:solidFill>
                <a:uFillTx/>
                <a:latin typeface="Candara"/>
              </a:rPr>
              <a:t>w rodzaju</a:t>
            </a:r>
            <a:r>
              <a:rPr b="0" lang="pl-PL" sz="2200" spc="-1" strike="noStrike">
                <a:solidFill>
                  <a:srgbClr val="ffffff"/>
                </a:solidFill>
                <a:latin typeface="Candara"/>
              </a:rPr>
              <a:t>:</a:t>
            </a:r>
            <a:br>
              <a:rPr sz="2200"/>
            </a:br>
            <a:br>
              <a:rPr sz="2200"/>
            </a:br>
            <a:r>
              <a:rPr b="1" lang="pl-PL" sz="2200" spc="-1" strike="noStrike">
                <a:solidFill>
                  <a:srgbClr val="ffffff"/>
                </a:solidFill>
                <a:latin typeface="Candara"/>
              </a:rPr>
              <a:t>ŚWIADCZENIA PIELĘGNACYJNE I OPIEKUŃCZE</a:t>
            </a:r>
            <a:br>
              <a:rPr sz="2200"/>
            </a:br>
            <a:r>
              <a:rPr b="1" lang="pl-PL" sz="2200" spc="-1" strike="noStrike">
                <a:solidFill>
                  <a:srgbClr val="ffffff"/>
                </a:solidFill>
                <a:latin typeface="Candara"/>
              </a:rPr>
              <a:t>W RAMACH OPIEKI DŁUGOTERMINOWEJ </a:t>
            </a:r>
            <a:br>
              <a:rPr sz="2200"/>
            </a:br>
            <a:br>
              <a:rPr sz="2200"/>
            </a:br>
            <a:r>
              <a:rPr b="0" lang="pl-PL" sz="2200" spc="-1" strike="noStrike">
                <a:solidFill>
                  <a:srgbClr val="ffffff"/>
                </a:solidFill>
                <a:latin typeface="Candara"/>
              </a:rPr>
              <a:t>oraz</a:t>
            </a:r>
            <a:br>
              <a:rPr sz="2200"/>
            </a:br>
            <a:br>
              <a:rPr sz="2200"/>
            </a:br>
            <a:r>
              <a:rPr b="1" lang="pl-PL" sz="2200" spc="-1" strike="noStrike">
                <a:solidFill>
                  <a:srgbClr val="ffffff"/>
                </a:solidFill>
                <a:latin typeface="Candara"/>
              </a:rPr>
              <a:t>OPIEKA PALIATYWNA I HOSPICYJNA </a:t>
            </a:r>
            <a:br>
              <a:rPr sz="2200"/>
            </a:br>
            <a:br>
              <a:rPr sz="2200"/>
            </a:br>
            <a:r>
              <a:rPr b="0" lang="pl-PL" sz="4000" spc="-1" strike="noStrike">
                <a:solidFill>
                  <a:srgbClr val="ffffff"/>
                </a:solidFill>
                <a:latin typeface="Candara"/>
              </a:rPr>
              <a:t>- aspekty formalno-prawne</a:t>
            </a:r>
            <a:br>
              <a:rPr sz="2200"/>
            </a:br>
            <a:br>
              <a:rPr sz="2200"/>
            </a:br>
            <a:br>
              <a:rPr sz="2200"/>
            </a:b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rostokąt 1"/>
          <p:cNvSpPr/>
          <p:nvPr/>
        </p:nvSpPr>
        <p:spPr>
          <a:xfrm>
            <a:off x="200160" y="1166760"/>
            <a:ext cx="9289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§ 14. 1. Oferta w formie pisemnej powinna zawierać następujące 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dokumenty i oświadczen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świadczenie oferenta o wpisach do rejestrów, według wzoru stanowiącego załącznik nr 2 do zarządzeni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2) w przypadku oferentów wykonujących działalność leczniczą w formie spółki cywilnej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– kopię umowy spółki lub wyciąg z tej umowy zawierający postanowienie o zasadach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reprezentacji spółki albo uchwałę wspólników spółki cywilnej w przedmiocie zasad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reprezentacji spółki lub kopie pełnomocnictw udzielonych przez pozostałych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wspólników do prowadzenia spraw spółki wykraczających poza zwykłe czynności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unkty 3-5 dotyczą leczenia uzdrowiskowego, rehabilitacji leczniczej i  ratownictwa medycznego (zostały pominięte w tej prezentacj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ole tekstowe 1"/>
          <p:cNvSpPr/>
          <p:nvPr/>
        </p:nvSpPr>
        <p:spPr>
          <a:xfrm>
            <a:off x="776160" y="549360"/>
            <a:ext cx="856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Oświadczenie oferenta o wpisach do rejestrów, według wzoru stanowiącego </a:t>
            </a:r>
            <a:r>
              <a:rPr b="1" lang="pl-PL" sz="1600" spc="-1" strike="noStrike">
                <a:solidFill>
                  <a:srgbClr val="000000"/>
                </a:solidFill>
                <a:latin typeface="Candara"/>
              </a:rPr>
              <a:t>załącznik nr 2 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do zarządzenia nr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18/2017/DSOZ z dnia 14 marca 2017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rostokąt 4"/>
          <p:cNvSpPr/>
          <p:nvPr/>
        </p:nvSpPr>
        <p:spPr>
          <a:xfrm>
            <a:off x="776160" y="1989000"/>
            <a:ext cx="8569440" cy="23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0" name="Picture 2" descr=""/>
          <p:cNvPicPr/>
          <p:nvPr/>
        </p:nvPicPr>
        <p:blipFill>
          <a:blip r:embed="rId1"/>
          <a:stretch/>
        </p:blipFill>
        <p:spPr>
          <a:xfrm>
            <a:off x="1424160" y="1285920"/>
            <a:ext cx="6841800" cy="54561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rostokąt 1"/>
          <p:cNvSpPr/>
          <p:nvPr/>
        </p:nvSpPr>
        <p:spPr>
          <a:xfrm>
            <a:off x="2526480" y="147600"/>
            <a:ext cx="43610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2862aa"/>
                </a:solidFill>
                <a:latin typeface="Arial"/>
              </a:rPr>
              <a:t>Z jakich dokumentów składa się ofe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ole tekstowe 2"/>
          <p:cNvSpPr/>
          <p:nvPr/>
        </p:nvSpPr>
        <p:spPr>
          <a:xfrm>
            <a:off x="776160" y="701640"/>
            <a:ext cx="8569440" cy="24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Candara"/>
              </a:rPr>
              <a:t>c.d. </a:t>
            </a:r>
            <a:r>
              <a:rPr b="1" lang="pl-PL" sz="1700" spc="-1" strike="noStrike" u="sng">
                <a:solidFill>
                  <a:srgbClr val="000000"/>
                </a:solidFill>
                <a:uFillTx/>
                <a:latin typeface="Candara"/>
              </a:rPr>
              <a:t>Dokumenty i oświadczenia (składane do wszystkich postępowań) : </a:t>
            </a:r>
            <a:r>
              <a:rPr b="1" lang="pl-PL" sz="1700" spc="-1" strike="noStrike">
                <a:solidFill>
                  <a:srgbClr val="000000"/>
                </a:solidFill>
                <a:latin typeface="Candara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Kopię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olisy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lub innego dokumentu potwierdzającego zawarcie przez oferenta umowy ubezpieczenia odpowiedzialności cywilnej oferenta za szkody wyrządzone w związku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z udzielaniem świadczeń w zakresie przedmiotu postępowania na okres obowiązywania umowy;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oferent może złożyć także umowę przedwstępną (promesę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) lub inny dokument,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tym także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oświadczenie, stwierdzające, że umowa ubezpieczenia odpowiedzialności cywilnej zostanie zawarta na okres obowiązywania umowy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ole tekstowe 3"/>
          <p:cNvSpPr/>
          <p:nvPr/>
        </p:nvSpPr>
        <p:spPr>
          <a:xfrm>
            <a:off x="0" y="3068640"/>
            <a:ext cx="8848800" cy="29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Obowiązkowe ubezpieczenie odpowiedzialności cywilnej, stosowane odpowiednio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do formy prowadzonej działalności, wydane na podstawi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 algn="just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Rozporządzenia Ministra Finansów z dnia 22 grudnia 2011 r. w sprawie obowiązkowego ubezpieczenie odpowiedzialności cywilnej </a:t>
            </a:r>
            <a:r>
              <a:rPr b="0" lang="pl-PL" sz="1600" spc="-1" strike="noStrike">
                <a:solidFill>
                  <a:srgbClr val="ff0000"/>
                </a:solidFill>
                <a:latin typeface="Arial"/>
                <a:ea typeface="Arial"/>
              </a:rPr>
              <a:t>podmiotu wykonującego działalność leczniczą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 (Dz. U. z 2011 r., Nr 293, poz. 1729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lbo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 algn="just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Rozporządzenia Ministra Finansów z dnia 22 grudnia 2011 r. w sprawie obowiązkowego ubezpieczenia odpowiedzialności cywilnej </a:t>
            </a:r>
            <a:r>
              <a:rPr b="0" lang="pl-PL" sz="1600" spc="-1" strike="noStrike">
                <a:solidFill>
                  <a:srgbClr val="ff0000"/>
                </a:solidFill>
                <a:latin typeface="Arial"/>
                <a:ea typeface="Arial"/>
              </a:rPr>
              <a:t>świadczeniodawcy niebędącego podmiotem wykonującym działalność leczniczą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udzielającego świadczeń opieki zdrowotnej (Dz. U. z 2011 r., Nr 293, poz. 1728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ole tekstowe 2"/>
          <p:cNvSpPr/>
          <p:nvPr/>
        </p:nvSpPr>
        <p:spPr>
          <a:xfrm>
            <a:off x="3844800" y="1133640"/>
            <a:ext cx="1727280" cy="36828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Obowiązkow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ole tekstowe 4"/>
          <p:cNvSpPr/>
          <p:nvPr/>
        </p:nvSpPr>
        <p:spPr>
          <a:xfrm>
            <a:off x="920880" y="1989000"/>
            <a:ext cx="2160360" cy="687960"/>
          </a:xfrm>
          <a:prstGeom prst="rect">
            <a:avLst/>
          </a:prstGeom>
          <a:solidFill>
            <a:srgbClr val="8fb5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Arial"/>
              </a:rPr>
              <a:t>OC podmiotu wykonującego działalność leczniczą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ole tekstowe 5"/>
          <p:cNvSpPr/>
          <p:nvPr/>
        </p:nvSpPr>
        <p:spPr>
          <a:xfrm>
            <a:off x="6969240" y="1944720"/>
            <a:ext cx="2087280" cy="885960"/>
          </a:xfrm>
          <a:prstGeom prst="rect">
            <a:avLst/>
          </a:prstGeom>
          <a:solidFill>
            <a:srgbClr val="8fb5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Arial"/>
              </a:rPr>
              <a:t>OC świadczeniodawcy niebędącego podmiotem wykonującym działalność leczniczą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AutoShape 4"/>
          <p:cNvSpPr/>
          <p:nvPr/>
        </p:nvSpPr>
        <p:spPr>
          <a:xfrm>
            <a:off x="2087640" y="189000"/>
            <a:ext cx="5976720" cy="57600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Ubezpieczenia odpowiedzialności cywilnej - medycz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8" name="Łącznik prosty ze strzałką 8"/>
          <p:cNvCxnSpPr/>
          <p:nvPr/>
        </p:nvCxnSpPr>
        <p:spPr>
          <a:xfrm>
            <a:off x="5816520" y="1503000"/>
            <a:ext cx="11534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79" name="Łącznik prosty ze strzałką 10"/>
          <p:cNvCxnSpPr/>
          <p:nvPr/>
        </p:nvCxnSpPr>
        <p:spPr>
          <a:xfrm flipH="1">
            <a:off x="2512440" y="1503000"/>
            <a:ext cx="10357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80" name="Łącznik prosty ze strzałką 12"/>
          <p:cNvCxnSpPr/>
          <p:nvPr/>
        </p:nvCxnSpPr>
        <p:spPr>
          <a:xfrm>
            <a:off x="4708080" y="85860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81" name="pole tekstowe 14"/>
          <p:cNvSpPr/>
          <p:nvPr/>
        </p:nvSpPr>
        <p:spPr>
          <a:xfrm>
            <a:off x="1179360" y="2881440"/>
            <a:ext cx="2665440" cy="58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OC lekarza lub lekarza dentys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(indywidualna/specjalistyczna praktyka lekarska)  (SG 75.000 euro/350.000 eur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Łącznik prostoliniowy 16"/>
          <p:cNvSpPr/>
          <p:nvPr/>
        </p:nvSpPr>
        <p:spPr>
          <a:xfrm>
            <a:off x="1014480" y="2681280"/>
            <a:ext cx="0" cy="305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Łącznik prostoliniowy 18"/>
          <p:cNvSpPr/>
          <p:nvPr/>
        </p:nvSpPr>
        <p:spPr>
          <a:xfrm flipV="1">
            <a:off x="1014480" y="3173040"/>
            <a:ext cx="164880" cy="21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rostokąt 19"/>
          <p:cNvSpPr/>
          <p:nvPr/>
        </p:nvSpPr>
        <p:spPr>
          <a:xfrm>
            <a:off x="1179360" y="3613320"/>
            <a:ext cx="2718000" cy="73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OC lekarza lub lekarza dentysty (spółk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cywilna, spółka jawna, spółka partnerska jako grupowa praktyka lekarska) (SG 75.000 euro/350.000 eur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Łącznik prostoliniowy 20"/>
          <p:cNvSpPr/>
          <p:nvPr/>
        </p:nvSpPr>
        <p:spPr>
          <a:xfrm flipV="1">
            <a:off x="1014480" y="3981600"/>
            <a:ext cx="164880" cy="3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rostokąt 30"/>
          <p:cNvSpPr/>
          <p:nvPr/>
        </p:nvSpPr>
        <p:spPr>
          <a:xfrm>
            <a:off x="1179360" y="4530600"/>
            <a:ext cx="2719440" cy="734760"/>
          </a:xfrm>
          <a:prstGeom prst="rect">
            <a:avLst/>
          </a:prstGeom>
          <a:noFill/>
          <a:ln w="9360">
            <a:solidFill>
              <a:srgbClr val="073e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OC pielęgniarki lub położnej (indywidualna/specjalistyczna praktyk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pielęgniarki lub położnej (SG 30.000 euro/150.000 eur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Łącznik prostoliniowy 37"/>
          <p:cNvSpPr/>
          <p:nvPr/>
        </p:nvSpPr>
        <p:spPr>
          <a:xfrm flipV="1">
            <a:off x="1014480" y="4900680"/>
            <a:ext cx="164880" cy="3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Łącznik prostoliniowy 44"/>
          <p:cNvSpPr/>
          <p:nvPr/>
        </p:nvSpPr>
        <p:spPr>
          <a:xfrm>
            <a:off x="3081240" y="256536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Łącznik prostoliniowy 46"/>
          <p:cNvSpPr/>
          <p:nvPr/>
        </p:nvSpPr>
        <p:spPr>
          <a:xfrm>
            <a:off x="4016520" y="2565360"/>
            <a:ext cx="0" cy="239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rostokąt 50"/>
          <p:cNvSpPr/>
          <p:nvPr/>
        </p:nvSpPr>
        <p:spPr>
          <a:xfrm>
            <a:off x="4264200" y="2406600"/>
            <a:ext cx="2260440" cy="982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OC pielęgniarki lub położnej (spółk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cywilna, spółka jawna, albo spółk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partnerska jako grupowa praktyk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pielęgniarki lub położnej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(SG 30.000 euro/150.000 eur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Łącznik prostoliniowy 55"/>
          <p:cNvSpPr/>
          <p:nvPr/>
        </p:nvSpPr>
        <p:spPr>
          <a:xfrm flipH="1">
            <a:off x="4005000" y="2898720"/>
            <a:ext cx="25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rostokąt 57"/>
          <p:cNvSpPr/>
          <p:nvPr/>
        </p:nvSpPr>
        <p:spPr>
          <a:xfrm>
            <a:off x="4270320" y="3613320"/>
            <a:ext cx="2273400" cy="76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OC pielęgniarki lub położnej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(indywidualna/specjalistyczna praktyka pielęgniarki lub położnej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(SG 30.000 euro/150.000 eur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Łącznik prostoliniowy 58"/>
          <p:cNvSpPr/>
          <p:nvPr/>
        </p:nvSpPr>
        <p:spPr>
          <a:xfrm flipH="1">
            <a:off x="4022640" y="3997440"/>
            <a:ext cx="247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rostokąt 65"/>
          <p:cNvSpPr/>
          <p:nvPr/>
        </p:nvSpPr>
        <p:spPr>
          <a:xfrm>
            <a:off x="4270320" y="4530600"/>
            <a:ext cx="2613240" cy="85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OC podmiotu leczniczego (stacjonarne i całodobowe świadczenia zdrowotne inne niż szpitalne oraz w zakresie ambulatoryjnych świadczeń zdrowotnych (SG 75.000 euro/350.000 eur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Łącznik prostoliniowy 67"/>
          <p:cNvSpPr/>
          <p:nvPr/>
        </p:nvSpPr>
        <p:spPr>
          <a:xfrm>
            <a:off x="4022640" y="4960800"/>
            <a:ext cx="247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rostokąt 71"/>
          <p:cNvSpPr/>
          <p:nvPr/>
        </p:nvSpPr>
        <p:spPr>
          <a:xfrm>
            <a:off x="7400880" y="3121200"/>
            <a:ext cx="2087640" cy="73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Osoby, które uzyskały fachow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uprawnienia do udzielania świadczeń zdrowotnych (SG 30.000 euro/150.000 eur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Łącznik prostoliniowy 73"/>
          <p:cNvSpPr/>
          <p:nvPr/>
        </p:nvSpPr>
        <p:spPr>
          <a:xfrm>
            <a:off x="7113600" y="2836800"/>
            <a:ext cx="0" cy="200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Łącznik prostoliniowy 75"/>
          <p:cNvSpPr/>
          <p:nvPr/>
        </p:nvSpPr>
        <p:spPr>
          <a:xfrm flipH="1">
            <a:off x="7113600" y="3490920"/>
            <a:ext cx="287280" cy="1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Łącznik prostoliniowy 78"/>
          <p:cNvSpPr/>
          <p:nvPr/>
        </p:nvSpPr>
        <p:spPr>
          <a:xfrm>
            <a:off x="7113600" y="48387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rostokąt 79"/>
          <p:cNvSpPr/>
          <p:nvPr/>
        </p:nvSpPr>
        <p:spPr>
          <a:xfrm>
            <a:off x="7400880" y="4465800"/>
            <a:ext cx="2087640" cy="100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Podmioty realizujące czynności z zakresu zaopatrzenia w środki pomocnicze i wyroby medyczne będące przedmiotami ortopedycznymi (SG 10.000 euro/50.000 Eur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rostokąt 83"/>
          <p:cNvSpPr/>
          <p:nvPr/>
        </p:nvSpPr>
        <p:spPr>
          <a:xfrm>
            <a:off x="1251000" y="5616720"/>
            <a:ext cx="495288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stacjonarne i całodobowe świadczenia zdrowotne – SZPITALNE – (SG 100.000 euro w odniesieniu do 1 zdarzenia /500.000 euro – w odniesieniu do wszystkich zdarzeń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Łącznik prostoliniowy 85"/>
          <p:cNvSpPr/>
          <p:nvPr/>
        </p:nvSpPr>
        <p:spPr>
          <a:xfrm flipH="1" flipV="1">
            <a:off x="1014120" y="5740200"/>
            <a:ext cx="2365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rostokąt 1"/>
          <p:cNvSpPr/>
          <p:nvPr/>
        </p:nvSpPr>
        <p:spPr>
          <a:xfrm>
            <a:off x="2526480" y="147600"/>
            <a:ext cx="43610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2862aa"/>
                </a:solidFill>
                <a:latin typeface="Arial"/>
              </a:rPr>
              <a:t>Z jakich dokumentów składa się ofe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ole tekstowe 2"/>
          <p:cNvSpPr/>
          <p:nvPr/>
        </p:nvSpPr>
        <p:spPr>
          <a:xfrm>
            <a:off x="344520" y="673200"/>
            <a:ext cx="9217080" cy="66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700" spc="-1" strike="noStrike">
                <a:solidFill>
                  <a:srgbClr val="000000"/>
                </a:solidFill>
                <a:latin typeface="Candara"/>
              </a:rPr>
              <a:t>c.d. </a:t>
            </a:r>
            <a:r>
              <a:rPr b="1" lang="pl-PL" sz="1700" spc="-1" strike="noStrike" u="sng">
                <a:solidFill>
                  <a:srgbClr val="000000"/>
                </a:solidFill>
                <a:uFillTx/>
                <a:latin typeface="Candara"/>
              </a:rPr>
              <a:t>Dokumenty i oświadczenia (składane do wszystkich postępowań)</a:t>
            </a:r>
            <a:r>
              <a:rPr b="1" lang="pl-PL" sz="1700" spc="-1" strike="noStrike">
                <a:solidFill>
                  <a:srgbClr val="000000"/>
                </a:solidFill>
                <a:latin typeface="Candara"/>
              </a:rPr>
              <a:t> : 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7) W przypadku, gdy w warunkach zawierania umów lub we wzorze umowy, dopuszczone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    jest zlecenie podwykonawcom udzielania świadczeń opieki zdrowotnej objętych umową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    - kopię zawartej umowy z podwykonawcą (bez postanowień określających finansowanie)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    albo zobowiązanie podwykonawcy do zawarcia umowy z oferentem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mowa zawarta z podwykonawc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albo  zobowiązanie podwykonawcy do zawarcia umowy z oferentem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usi zawierać zastrzeżenie o prawie Oddziału Funduszu do przeprowadzenia </a:t>
            </a:r>
            <a:br>
              <a:rPr sz="1600"/>
            </a:b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kontroli podwykonawcy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0070c0"/>
                </a:solidFill>
                <a:latin typeface="Arial"/>
              </a:rPr>
              <a:t>na zasadach określonych w ustawie z dnia 27 sierpnia 2004 rok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0070c0"/>
                </a:solidFill>
                <a:latin typeface="Arial"/>
              </a:rPr>
              <a:t>o świadczeniach opieki zdrowotnej finansowanych ze środków publicznych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0070c0"/>
                </a:solidFill>
                <a:latin typeface="Arial"/>
              </a:rPr>
              <a:t>w zakresie wynikającym z umowy zawartej z dyrektorem oddziału Fundusz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0000"/>
                </a:solidFill>
                <a:latin typeface="Arial"/>
              </a:rPr>
              <a:t>BRAK POWYŻSZEJ KLAUZULI TRAKTOWANY JEST JAKO BRAK FORMALNY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2060"/>
                </a:solidFill>
                <a:latin typeface="Arial"/>
              </a:rPr>
              <a:t>Brak umów wymienionych w wykazie  TRAKTOWANY JEST JAKO BRAK FORMAL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W umowie podwykonawczej musi zostać jednocześnie określony przedmiot powykonywanych świadczeń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rostokąt 1"/>
          <p:cNvSpPr/>
          <p:nvPr/>
        </p:nvSpPr>
        <p:spPr>
          <a:xfrm>
            <a:off x="2526480" y="147600"/>
            <a:ext cx="43610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2862aa"/>
                </a:solidFill>
                <a:latin typeface="Arial"/>
              </a:rPr>
              <a:t>Z jakich dokumentów składa się ofe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ole tekstowe 2"/>
          <p:cNvSpPr/>
          <p:nvPr/>
        </p:nvSpPr>
        <p:spPr>
          <a:xfrm>
            <a:off x="776160" y="701640"/>
            <a:ext cx="8569440" cy="33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700" spc="-1" strike="noStrike" u="sng">
                <a:solidFill>
                  <a:srgbClr val="000000"/>
                </a:solidFill>
                <a:uFillTx/>
                <a:latin typeface="Candara"/>
              </a:rPr>
              <a:t>Dokumenty i oświadczenia (składane do wszystkich postępowań) : </a:t>
            </a:r>
            <a:r>
              <a:rPr b="1" lang="pl-PL" sz="1700" spc="-1" strike="noStrike">
                <a:solidFill>
                  <a:srgbClr val="000000"/>
                </a:solidFill>
                <a:latin typeface="Candara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8) W przypadku, gdy oferent nie przedstawi kopii umów z podwykonawcami – oświadczenie,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że będzie wykonywał umowę samodzielnie bez zlecania podwykonawcom udzielania świadczeń będących przedmiotem umowy</a:t>
            </a:r>
            <a:r>
              <a:rPr b="0" lang="pl-PL" sz="1700" spc="-1" strike="noStrike">
                <a:solidFill>
                  <a:srgbClr val="000000"/>
                </a:solidFill>
                <a:latin typeface="Candara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przypadku, gdy w warunkach zawierania umów lub we wzorze umowy, dopuszczone jest zlecanie podwykonawcom udzielania świadczeń opieki zdrowotnej objętych umową </a:t>
            </a:r>
            <a:br>
              <a:rPr sz="1600"/>
            </a:b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kopię zawartej umowy z podwykonawcą (bez postanowień określających finansowanie) albo zobowiązanie podwykonawcy do zawarcia umowy z oferentem, zawierające zastrzeżenie o prawie Funduszu do przeprowadzenia kontroli na zasadach określonych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ustawie, w zakresie wynikającym z umowy zawartej z dyrektorem oddziałem Funduszu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AutoShape 4"/>
          <p:cNvSpPr/>
          <p:nvPr/>
        </p:nvSpPr>
        <p:spPr>
          <a:xfrm>
            <a:off x="961920" y="4292640"/>
            <a:ext cx="3745080" cy="180036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500" spc="-1" strike="noStrike" u="sng">
                <a:solidFill>
                  <a:srgbClr val="000000"/>
                </a:solidFill>
                <a:uFillTx/>
                <a:latin typeface="Arial"/>
              </a:rPr>
              <a:t>Samodzielna</a:t>
            </a: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 realizacja świadczeń przez Oferenta - wymagane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500" spc="-1" strike="noStrike">
                <a:solidFill>
                  <a:srgbClr val="000000"/>
                </a:solidFill>
                <a:latin typeface="Arial"/>
              </a:rPr>
              <a:t>OŚWIADCZENIE O SAMODZIELNEJ REALIZACJI ŚWIADCZEŃ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AutoShape 4"/>
          <p:cNvSpPr/>
          <p:nvPr/>
        </p:nvSpPr>
        <p:spPr>
          <a:xfrm>
            <a:off x="5060880" y="4292640"/>
            <a:ext cx="4213440" cy="194472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Realizacja świadczeń przy udziale </a:t>
            </a:r>
            <a:r>
              <a:rPr b="1" lang="pl-PL" sz="1500" spc="-1" strike="noStrike" u="sng">
                <a:solidFill>
                  <a:srgbClr val="000000"/>
                </a:solidFill>
                <a:uFillTx/>
                <a:latin typeface="Arial"/>
              </a:rPr>
              <a:t>podwykonawców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-  wymagan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WYKAZ PODWYKONAWCÓW ORAZ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UMOWY Z PODWYKONAWCAMI ZAWIERAJĄCE ZASTRZEŻENIE O PRAWIE FUNDUSZU DO PRZEPROWADZENIA KONTROL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rostokąt 2"/>
          <p:cNvSpPr/>
          <p:nvPr/>
        </p:nvSpPr>
        <p:spPr>
          <a:xfrm>
            <a:off x="2526480" y="147600"/>
            <a:ext cx="43610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2862aa"/>
                </a:solidFill>
                <a:latin typeface="Arial"/>
              </a:rPr>
              <a:t>Z jakich dokumentów składa się ofe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ole tekstowe 3"/>
          <p:cNvSpPr/>
          <p:nvPr/>
        </p:nvSpPr>
        <p:spPr>
          <a:xfrm>
            <a:off x="776160" y="701640"/>
            <a:ext cx="856944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700" spc="-1" strike="noStrike" u="sng">
                <a:solidFill>
                  <a:srgbClr val="000000"/>
                </a:solidFill>
                <a:uFillTx/>
                <a:latin typeface="Candara"/>
              </a:rPr>
              <a:t>Oferta w formie pisemnej powinna zawierać następujące dokumenty i oświadczenia (składane do wszystkich postępowań) : </a:t>
            </a:r>
            <a:r>
              <a:rPr b="1" lang="pl-PL" sz="1700" spc="-1" strike="noStrike">
                <a:solidFill>
                  <a:srgbClr val="000000"/>
                </a:solidFill>
                <a:latin typeface="Candara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9) Oświadczenie zgodne ze wzorem określonym w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załączniku nr 3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do zarządzenia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- oświadczenie  świadczeniodawcy o zapoznaniu się z istotnymi dokumentami niezbędnymi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do przeprowadzenia postępowania oraz do posiadania tytułów prawnych do korzystania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z lokali, sprzętu, aparatury medycznej i środków transportu w miejscach udzielania świadczeń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1" name="Picture 9" descr=""/>
          <p:cNvPicPr/>
          <p:nvPr/>
        </p:nvPicPr>
        <p:blipFill>
          <a:blip r:embed="rId1"/>
          <a:stretch/>
        </p:blipFill>
        <p:spPr>
          <a:xfrm>
            <a:off x="4937040" y="3643200"/>
            <a:ext cx="28800" cy="288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2" name="Picture 3" descr=""/>
          <p:cNvPicPr/>
          <p:nvPr/>
        </p:nvPicPr>
        <p:blipFill>
          <a:blip r:embed="rId1"/>
          <a:stretch/>
        </p:blipFill>
        <p:spPr>
          <a:xfrm>
            <a:off x="1352520" y="260280"/>
            <a:ext cx="7272360" cy="65977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rostokąt 1"/>
          <p:cNvSpPr/>
          <p:nvPr/>
        </p:nvSpPr>
        <p:spPr>
          <a:xfrm>
            <a:off x="560520" y="1484280"/>
            <a:ext cx="8856360" cy="56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spcBef>
                <a:spcPts val="400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10) w przypadku, gdy oferent jest reprezentowany przez pełnomocnika –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ełnomocnictwo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do składania oświadczeń woli w imieniu oferenta, w szczególności do złożenia oferty, udzielone przez osobę lub osoby, których prawo do reprezentowania oferenta wynika z dokumentów przedstawionych wraz z ofert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400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11) pełnomocnictwo, o którym mowa w art. 132a ust. 2 ustawy, o ile są spełnione przesłanki określone w art. 132a ustawy (gdy świadczeniodawcy ubiegają się wspólnie o zawarcie umowy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400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12) w przypadku, gdy oferent wyraża zgodę na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doręczanie przez komisję konkursową oświadczeń i zawiadomień za pośrednictwem środków komunikacji elektronicznej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- zgodę oferenta, o której mowa w § 5 ust. 3 rozporządzenia ministra właściwego do spraw zdrowia wydanego na podstawie art.139 ust. 9 ustawy. Oferent wyraża zgodę w szczególności przez wypełnienie i załączenie do oferty formularza, którego wzór określony jest w załączniku nr 9 do zarządzeni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400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13) inne dokumenty lub oświadczenia, jeżeli obowiązek dołączenia ich do oferty został określony w warunkach zawierania umó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400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ośnik elektroniczny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400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Kopie dokumentów muszą być poświadczone za zgodność z oryginałem przez osoby uprawnione do reprezentowania oferen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rostokąt 2"/>
          <p:cNvSpPr/>
          <p:nvPr/>
        </p:nvSpPr>
        <p:spPr>
          <a:xfrm>
            <a:off x="1143000" y="266760"/>
            <a:ext cx="806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.d.dokumenty i oświadczenia (składane do wszystkich postępowań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rostokąt 1"/>
          <p:cNvSpPr/>
          <p:nvPr/>
        </p:nvSpPr>
        <p:spPr>
          <a:xfrm>
            <a:off x="488880" y="476280"/>
            <a:ext cx="8928000" cy="51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W przypadku, gdy w dniu składania oferty oddział Funduszu jest w  posiadaniu dokumentów,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o których mowa w § 14 ust. 1 pkt 2, 3 i 6 Zarządzenia nr 18/2017/DSOZ z dnia 14 marca 2017 roku (dotyczy tylko  </a:t>
            </a:r>
            <a:r>
              <a:rPr b="1" lang="pl-PL" sz="1600" spc="-1" strike="noStrike" u="sng">
                <a:solidFill>
                  <a:srgbClr val="000000"/>
                </a:solidFill>
                <a:uFillTx/>
                <a:latin typeface="Candara"/>
              </a:rPr>
              <a:t>kopii umowy spółki cywilnej, </a:t>
            </a:r>
            <a:r>
              <a:rPr b="1" lang="pl-PL" sz="1600" spc="-1" strike="noStrike">
                <a:solidFill>
                  <a:srgbClr val="000000"/>
                </a:solidFill>
                <a:latin typeface="Candara"/>
              </a:rPr>
              <a:t>kopia umowy na korzystanie z usług świadczonych przez zakład posiadający koncesję na eksploatacje naturalnych surowców leczniczych</a:t>
            </a:r>
            <a:r>
              <a:rPr b="1" lang="pl-PL" sz="1600" spc="-1" strike="noStrike" u="sng">
                <a:solidFill>
                  <a:srgbClr val="000000"/>
                </a:solidFill>
                <a:uFillTx/>
                <a:latin typeface="Candara"/>
              </a:rPr>
              <a:t>, kopii polisy</a:t>
            </a: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),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a potwierdzony w nich stan prawny lub faktyczny nie uległ zmianie, oferent może złożyć oświadczenie zgodne ze wzorem określonym w załączniku nr 4 ww. do zarządzen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rostokąt 1"/>
          <p:cNvSpPr/>
          <p:nvPr/>
        </p:nvSpPr>
        <p:spPr>
          <a:xfrm>
            <a:off x="987840" y="291960"/>
            <a:ext cx="793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6600"/>
                </a:solidFill>
                <a:latin typeface="Arial"/>
              </a:rPr>
              <a:t>Podstawy prawne przeprowadzenia procesu kontraktowania świadcze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ole tekstowe 2"/>
          <p:cNvSpPr/>
          <p:nvPr/>
        </p:nvSpPr>
        <p:spPr>
          <a:xfrm>
            <a:off x="57240" y="662040"/>
            <a:ext cx="9575640" cy="63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Ustawa z dnia 27 sierpnia 2004 r. o świadczeniach opieki zdrowotnej finansowanych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ze środków publicznych (tj. Dz.U. 2018 poz. 1510 z późn. zm.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Ustawa z dnia 15 kwietnia 2011 r. o działalności leczniczej (tj. Dz.U. 2018 r. poz. 160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Rozporządzenie Ministra Zdrowia z dnia 8 września 2015 r. w sprawie ogólnych warunków umów o udzielanie świadczeń opieki zdrowotnej (Dz. U. z 2016 r., poz.1146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z późn. zm.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Rozporządzenie Ministra Zdrowia z dnia 22 grudnia 2014 r. w sprawie sposobu ogłaszania o postępowaniu w sprawie zawarcia umowy o udzielanie świadczeń opieki zdrowotnej, składania ofert, powoływania i powoływania komisji konkursowych,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jej zadań oraz trybu pracy (Dz. U. 2018, poz. 1897),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Zarządzenie nr 18/2017/DSOZ Prezesa Narodowego Funduszu Zdrowia z dnia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14 marca 2017 r. w sprawie warunków postępowania dotyczącego zawierania umów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o udzielanie świadczeń opieki zdrowotnej (z późn. zm.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ZARZĄDZENIE WEWNĘTRZNE DYREKTORA ŚLĄSKIEGO ODDZIAŁU WOJEWÓDZKIEGO NARODOWEGO FUNDUSZU ZDROWIA W KATOWICACH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Nr 179/2015 z dnia 5 listopada 2015 r. w sprawie wprowadzenia zasad weryfikacji oferentów uczestniczących w postępowaniach poprzedzających zawarcie umów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o udzielanie świadczeń opieki zdrowotnej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rostokąt 1"/>
          <p:cNvSpPr/>
          <p:nvPr/>
        </p:nvSpPr>
        <p:spPr>
          <a:xfrm>
            <a:off x="849240" y="692280"/>
            <a:ext cx="849636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Picture 2" descr=""/>
          <p:cNvPicPr/>
          <p:nvPr/>
        </p:nvPicPr>
        <p:blipFill>
          <a:blip r:embed="rId1"/>
          <a:stretch/>
        </p:blipFill>
        <p:spPr>
          <a:xfrm>
            <a:off x="1928880" y="476280"/>
            <a:ext cx="6480000" cy="59054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rostokąt 1"/>
          <p:cNvSpPr/>
          <p:nvPr/>
        </p:nvSpPr>
        <p:spPr>
          <a:xfrm>
            <a:off x="920880" y="620640"/>
            <a:ext cx="82803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 u="sng">
                <a:solidFill>
                  <a:srgbClr val="000000"/>
                </a:solidFill>
                <a:uFillTx/>
                <a:latin typeface="Candara"/>
              </a:rPr>
              <a:t>Załącznik nr 6 </a:t>
            </a: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do warunków postępowan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tj.: </a:t>
            </a:r>
            <a:r>
              <a:rPr b="1" lang="pl-PL" sz="1800" spc="-1" strike="noStrike">
                <a:solidFill>
                  <a:srgbClr val="000000"/>
                </a:solidFill>
                <a:latin typeface="Candara"/>
              </a:rPr>
              <a:t>Wzór podpisu i parafy osoby podpisującej formularz ofertowy i ofert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9" name="Picture 14" descr="MC900379929[1]"/>
          <p:cNvPicPr/>
          <p:nvPr/>
        </p:nvPicPr>
        <p:blipFill>
          <a:blip r:embed="rId1"/>
          <a:stretch/>
        </p:blipFill>
        <p:spPr>
          <a:xfrm rot="169200">
            <a:off x="1767960" y="3057480"/>
            <a:ext cx="1119240" cy="2597040"/>
          </a:xfrm>
          <a:prstGeom prst="rect">
            <a:avLst/>
          </a:prstGeom>
          <a:ln w="0">
            <a:noFill/>
          </a:ln>
        </p:spPr>
      </p:pic>
      <p:pic>
        <p:nvPicPr>
          <p:cNvPr id="920" name="Picture 4" descr=""/>
          <p:cNvPicPr/>
          <p:nvPr/>
        </p:nvPicPr>
        <p:blipFill>
          <a:blip r:embed="rId2"/>
          <a:stretch/>
        </p:blipFill>
        <p:spPr>
          <a:xfrm>
            <a:off x="3368520" y="1844640"/>
            <a:ext cx="5688000" cy="40212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/>
          </p:nvPr>
        </p:nvSpPr>
        <p:spPr>
          <a:xfrm>
            <a:off x="415440" y="1413000"/>
            <a:ext cx="8858520" cy="50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15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Zgodnie z art. 135 ust. 2 pkt 2 ustawy z dnia 27 sierpnia 2004 r. o świadczeniach opieki zdrowotnej finansowanych ze środków publicznych, oferent może złożyć oświadczenie, w którym wnosi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o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Candara"/>
              </a:rPr>
              <a:t>zastrzeżenie informacji </a:t>
            </a: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znajdujących się w ofercie, stanowiących tajemnicę przedsiębiorcy.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15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73e87"/>
                </a:solidFill>
                <a:latin typeface="Candara"/>
              </a:rPr>
              <a:t>UWAGA!</a:t>
            </a:r>
            <a:r>
              <a:rPr b="1" lang="pl-PL" sz="1800" spc="-1" strike="noStrike">
                <a:solidFill>
                  <a:srgbClr val="ff0000"/>
                </a:solidFill>
                <a:latin typeface="Candara"/>
              </a:rPr>
              <a:t>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15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15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Candara"/>
              </a:rPr>
              <a:t>NIEDOPUSZCZALNE JEST ZASTRZEŻENIE CAŁEJ OFERTY!!!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15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 type="title"/>
          </p:nvPr>
        </p:nvSpPr>
        <p:spPr>
          <a:xfrm>
            <a:off x="415440" y="404640"/>
            <a:ext cx="916308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pl-PL" sz="1600" spc="-1" strike="noStrike" u="sng">
                <a:solidFill>
                  <a:srgbClr val="000000"/>
                </a:solidFill>
                <a:uFillTx/>
                <a:latin typeface="Candara"/>
              </a:rPr>
              <a:t>Załącznik nr 8 </a:t>
            </a: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do warunków postępowania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tj.: </a:t>
            </a:r>
            <a:r>
              <a:rPr b="1" lang="pl-PL" sz="1600" spc="-1" strike="noStrike">
                <a:solidFill>
                  <a:srgbClr val="000000"/>
                </a:solidFill>
                <a:latin typeface="Candara"/>
              </a:rPr>
              <a:t>Oświadczenie oferenta o zastrzeżeniu informacji stanowiących tajemnicę przedsiębiorcy</a:t>
            </a:r>
            <a:endParaRPr b="0" lang="en-US" sz="1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rostokąt 2"/>
          <p:cNvSpPr/>
          <p:nvPr/>
        </p:nvSpPr>
        <p:spPr>
          <a:xfrm>
            <a:off x="272880" y="1550880"/>
            <a:ext cx="9433080" cy="44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OŚWIADCZENIE OFERENTA O ZASTRZEŻENIU INFORMACJ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STANOWIĄCYCH TAJEMNICĘ PRZEDSIĘBIORC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Zgodnie z art. 135 ust. 2 pkt 2 ustawy z dnia 27 sierpnia 2004 r. o świadczeniach opieki zdrowotnej finansowanych ze środków publicznych (Dz. U. z 2008 r.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Nr 164, poz.1027, późn. zm.) wnoszę o zastrzeżenie w złożonej przeze mnie ofercie następujących informacji, stanowiących tajemnicę przedsiębiorcy: Element oferty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Zastrzegam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1. Wykaz podwykonawcó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2. Wykaz personel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3. Wykaz sprzęt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4. Wykaz pojazdó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5. Wykaz pomieszcze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6. Wykaz miejsc udzielania świadczeń z danymi identyfikacyjnymi, obejmujący również miejsca udzielania świadczeń przez podwykonawcó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7. Ofertę w zakresie liczby i ceny dla przedmiotu postępowania i miejsca udzielania świadcze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8. Harmonogram udzielania świadczeń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Harmonogram pracy personelu lub jego dostępność godzinow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10. Ankiety dotyczące danego postępowania w części zawierającej informacje zastrzeżone, wskazane w l.p. 1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11. Inne, niż wymienione w l.p. 1-10, informacj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/>
          </p:nvPr>
        </p:nvSpPr>
        <p:spPr>
          <a:xfrm>
            <a:off x="415440" y="1341000"/>
            <a:ext cx="885852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indent="0" algn="just">
              <a:lnSpc>
                <a:spcPct val="15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Na podstawie § 5 ust. 3 rozporządzenia Ministra Zdrowia z dnia 22 grudnia 2014 r. w sprawie sposobu ogłaszania o postępowaniu w sprawie zawarcia umowy o udzielanie świadczeń opieki zdrowotnej, składania ofert powoływania i odwoływania komisji konkursowej, jej zadań oraz trybu pracy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(Dz. U. poz. 1980, z późn. zm.) </a:t>
            </a:r>
            <a:r>
              <a:rPr b="1" lang="pl-PL" sz="1600" spc="-1" strike="noStrike">
                <a:solidFill>
                  <a:srgbClr val="000000"/>
                </a:solidFill>
                <a:latin typeface="Candara"/>
              </a:rPr>
              <a:t>oferent może wyrazić zgodę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Candara"/>
              </a:rPr>
              <a:t>na doręczanie przez komisję konkursową oświadczeń i zawiadomień za pośrednictwem środków komunikacji elektronicznej</a:t>
            </a: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, bez zachowania wymogów dotyczących bezpiecznego podpisu elektronicznego w rozumieniu art. 3 pkt 10 rozporządzenia Parlamentu Europejskiego i Rady (UE) nr 910/2014 z dnia 23 lipca 2014 r. w sprawie identyfikacji elektronicznej i usług zaufania w odniesieniu do transakcji elektronicznych na rynku wewnętrznym oraz uchylającego dyrektywę 1999/93/WE (Dz. Urz. UE L 257 z 28.08.2014, str. 73)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title"/>
          </p:nvPr>
        </p:nvSpPr>
        <p:spPr>
          <a:xfrm>
            <a:off x="415440" y="404280"/>
            <a:ext cx="916308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pl-PL" sz="1600" spc="-1" strike="noStrike" u="sng">
                <a:solidFill>
                  <a:srgbClr val="000000"/>
                </a:solidFill>
                <a:uFillTx/>
                <a:latin typeface="Candara"/>
              </a:rPr>
              <a:t>Załącznik nr 9 </a:t>
            </a: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do warunków postępowania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tj.: </a:t>
            </a:r>
            <a:r>
              <a:rPr b="1" lang="pl-PL" sz="1600" spc="-1" strike="noStrike">
                <a:solidFill>
                  <a:srgbClr val="000000"/>
                </a:solidFill>
                <a:latin typeface="Candara"/>
              </a:rPr>
              <a:t>ZGODA NA DORĘCZANIE PRZEZ KOMISJĘ KONKURSOWĄ </a:t>
            </a:r>
            <a:br>
              <a:rPr sz="1600"/>
            </a:br>
            <a:r>
              <a:rPr b="1" lang="pl-PL" sz="1600" spc="-1" strike="noStrike">
                <a:solidFill>
                  <a:srgbClr val="000000"/>
                </a:solidFill>
                <a:latin typeface="Candara"/>
              </a:rPr>
              <a:t>OŚWIADCZEŃ I ZAWIADOMIEŃ ZA POŚREDNICTWEM ŚRODKÓW KOMUNIKACJI ELEKTRONICZNEJ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AutoShape 4"/>
          <p:cNvSpPr/>
          <p:nvPr/>
        </p:nvSpPr>
        <p:spPr>
          <a:xfrm>
            <a:off x="920880" y="1125360"/>
            <a:ext cx="8353440" cy="64800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6000"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ozumie się przez to pisemną, zunifikowaną część oferty zawierającą </a:t>
            </a:r>
            <a:br>
              <a:rPr sz="1600"/>
            </a:br>
            <a:r>
              <a:rPr b="1" lang="pl-PL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fertę rzeczową i cenową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raz z opisem proponowanego potencjału wykonawczego oferenta i odpowiedziami na pytania ankietow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rostokąt 6"/>
          <p:cNvSpPr/>
          <p:nvPr/>
        </p:nvSpPr>
        <p:spPr>
          <a:xfrm>
            <a:off x="2073240" y="523800"/>
            <a:ext cx="61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pl-PL" sz="2400" spc="-1" strike="noStrike">
                <a:solidFill>
                  <a:srgbClr val="2862aa"/>
                </a:solidFill>
                <a:latin typeface="Arial"/>
              </a:rPr>
              <a:t>Formularz ofertow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rostokąt 8"/>
          <p:cNvSpPr/>
          <p:nvPr/>
        </p:nvSpPr>
        <p:spPr>
          <a:xfrm>
            <a:off x="631800" y="1989000"/>
            <a:ext cx="9001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For</a:t>
            </a:r>
            <a:r>
              <a:rPr b="1" lang="pl-PL" sz="1400" spc="-1" strike="noStrike" u="sng">
                <a:solidFill>
                  <a:srgbClr val="000000"/>
                </a:solidFill>
                <a:uFillTx/>
                <a:latin typeface="Calibri"/>
              </a:rPr>
              <a:t>mularz ofertowy zawier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dane identyfikacyjne oferent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wykaz podwykonawców z informacją o umowach podwykonawstwa, w przypadku gdy w warunkach zawierania umów lub we wzorze umowy dopuszczone jest zlecanie podwykonawcom udzielania świadczeń opieki zdrowotnej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wykaz personelu z opisem kompetencji; </a:t>
            </a:r>
            <a:r>
              <a:rPr b="0" lang="pl-PL" sz="1400" spc="-1" strike="noStrike" u="sng">
                <a:solidFill>
                  <a:srgbClr val="000000"/>
                </a:solidFill>
                <a:uFillTx/>
                <a:latin typeface="Calibri"/>
              </a:rPr>
              <a:t>oferent obowiązany jest udokumentować gotowość udzielania świadczeń od pierwszego dnia obowiązywania umowy o udzielanie świadczeń opieki zdrowotnej przez każdą z wymienionych w wykazie osób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. Dokumentem potwierdzającym gotowość udzielania świadczeń jest zawarta z oferentem lub podwykonawcą umowa cywilnoprawna, w szczególności umowa o pracę lub pisemne zobowiązanie do zawarcia jednej z ww. umów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wykaz zasobów (sprzętu, pojazdów, pomieszczeń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wykaz miejsc udzielania świadczeń z danymi identyfikacyjnymi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ofertę w zakresie liczby  i ceny dla przedmiotu postępowania i miejsca udzielania świadczeń, w tym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6600"/>
              </a:buClr>
              <a:buSzPct val="75000"/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potencjał wykonawczy dla przedmiotu postępowania i miejsca udzielania świadczeń na podstawie wykazów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6600"/>
              </a:buClr>
              <a:buSzPct val="75000"/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harmonogram udzielania świadczeń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6600"/>
              </a:buClr>
              <a:buSzPct val="75000"/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harmonogram pracy personelu lub jego ogólną dostępność godzinową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ankiety dotyczące danego postępowa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rostokąt 1"/>
          <p:cNvSpPr/>
          <p:nvPr/>
        </p:nvSpPr>
        <p:spPr>
          <a:xfrm>
            <a:off x="849240" y="333360"/>
            <a:ext cx="8207280" cy="72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 u="sng">
                <a:solidFill>
                  <a:srgbClr val="000000"/>
                </a:solidFill>
                <a:uFillTx/>
                <a:latin typeface="Candara"/>
              </a:rPr>
              <a:t>Do najczęstszych błędów podczas składania oferty zalicza się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składanie niewypełnionych bądź niepodpisanych oświadczeń lub oświadczenie nie zostało podpisane przez osobę uprawnioną do reprezentacji podmiotu składającego ofertę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składanie obligatoryjnych oświadczeń przez oferenta wg nieaktualnych wzorów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brak podpisów i numeracji stron (podpisane i opatrzone kolejnym numerem muszą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   być zarówno formularz ofertowy, jak i wszystkie załączniki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brak zastrzeżenia o prawie Funduszu do przeprowadzenia kontroli na zasadach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    określonych w ustawie z dnia 27 sierpnia 2004 r. o świadczeniach opieki zdrowotnej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    finansowanych ze środków publicznych (t.j. DzU 2018 r. poz.1510 z późn. zm.) w zakresie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    wynikającym z umowy zawartej z dyrektorem oddziału Funduszu w umowach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    z podwykonawcami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brak załączonych do oferty umów z podwykonawcami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brak w ofercie szczegółowych danych identyfikacyjnych oferenta bądź przedłożenie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    nieaktualnych danych kontaktowych (w ofercie należy podać taki numer telefonu oferenta,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    który umożliwi możliwie najszybszy i najskuteczniejszy kontakt z oferente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rostokąt 1"/>
          <p:cNvSpPr/>
          <p:nvPr/>
        </p:nvSpPr>
        <p:spPr>
          <a:xfrm>
            <a:off x="849240" y="620640"/>
            <a:ext cx="8207280" cy="59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w przypadku gdy oferent reprezentowany jest przez pełnomocnik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       </a:t>
            </a: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- brak pełnomocnictwa do składania oświadczeń woli w imieniu oferenta, w szczególności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       do złożenia oferty udzielonego przez osobę lub osoby, których prawo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       do reprezentowania oferenta wynika z dokumentów przedstawionych wraz z ofertą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brak przedłożonego w ofercie załącznika stanowiącego wzór podpisu i parafy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brak możliwości odczytu treści nośnika elektronicznego przesłanego przez świadczeniodawcę – wersja elektroniczna oferty (oferta w wersji elektronicznej zapisana w niepoprawnym formacie, brak zapisanego pliku na nośniku elektronicznym,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brak nośnika elektronicznego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brak załączonej w ofercie umowy OC lub umowa OC zawiera niepełny okres ubezpieczenia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w przypadku, gdy oferent wykonywał będzie umowę samodzielnie – brak oświadczenia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o samodzielnym wykonywaniu umowy (bez zlecania podwykonawcom udzielania świadczeń będących przedmiotem umowy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Rectangle 1"/>
          <p:cNvSpPr/>
          <p:nvPr/>
        </p:nvSpPr>
        <p:spPr>
          <a:xfrm>
            <a:off x="-1800" y="1080"/>
            <a:ext cx="8848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e36c0a"/>
                </a:solidFill>
                <a:latin typeface="Arial"/>
                <a:ea typeface="Calibri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rostokąt 5"/>
          <p:cNvSpPr/>
          <p:nvPr/>
        </p:nvSpPr>
        <p:spPr>
          <a:xfrm>
            <a:off x="1639800" y="549360"/>
            <a:ext cx="66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862aa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2862aa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2862aa"/>
                </a:solidFill>
                <a:latin typeface="Candara"/>
              </a:rPr>
              <a:t>System oceny of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AutoShape 4"/>
          <p:cNvSpPr/>
          <p:nvPr/>
        </p:nvSpPr>
        <p:spPr>
          <a:xfrm>
            <a:off x="488880" y="981000"/>
            <a:ext cx="9217080" cy="79236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Ocena ofert pod względem </a:t>
            </a:r>
            <a:r>
              <a:rPr b="1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spełniania wymogów formalno – prawnych </a:t>
            </a: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dotyczy sprawdzeni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 Box 13"/>
          <p:cNvSpPr/>
          <p:nvPr/>
        </p:nvSpPr>
        <p:spPr>
          <a:xfrm>
            <a:off x="1187280" y="1844640"/>
            <a:ext cx="756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Czy oferta nie podlega odrzuceniu lub pozostawieniu bez rozpoznan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 Box 14"/>
          <p:cNvSpPr/>
          <p:nvPr/>
        </p:nvSpPr>
        <p:spPr>
          <a:xfrm>
            <a:off x="1187280" y="2565360"/>
            <a:ext cx="7561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Czy oferta zawiera wszystkie formularze, załączniki i oświadczenia wymagane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od świadczeniodawcy i określone w materiałach informacyjnych dotyczących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danego postępowan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 Box 15"/>
          <p:cNvSpPr/>
          <p:nvPr/>
        </p:nvSpPr>
        <p:spPr>
          <a:xfrm>
            <a:off x="1187280" y="3500280"/>
            <a:ext cx="756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Czy wersja elektroniczna formularza ofertowego jest zgodna z wersją papierową formular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 Box 16"/>
          <p:cNvSpPr/>
          <p:nvPr/>
        </p:nvSpPr>
        <p:spPr>
          <a:xfrm>
            <a:off x="1187280" y="4292640"/>
            <a:ext cx="7561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Czy oferta zawiera wymagane dokumenty formalno-prawne i czy są one zgodne 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ze złożoną ofert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Rectangle 1"/>
          <p:cNvSpPr/>
          <p:nvPr/>
        </p:nvSpPr>
        <p:spPr>
          <a:xfrm>
            <a:off x="-1800" y="1080"/>
            <a:ext cx="8848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e36c0a"/>
                </a:solidFill>
                <a:latin typeface="Arial"/>
                <a:ea typeface="Calibri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rostokąt 5"/>
          <p:cNvSpPr/>
          <p:nvPr/>
        </p:nvSpPr>
        <p:spPr>
          <a:xfrm>
            <a:off x="2360520" y="333360"/>
            <a:ext cx="53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862aa"/>
                </a:solidFill>
                <a:latin typeface="Arial"/>
              </a:rPr>
              <a:t>Przesłanki do odrzucenia of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AutoShape 4"/>
          <p:cNvSpPr/>
          <p:nvPr/>
        </p:nvSpPr>
        <p:spPr>
          <a:xfrm>
            <a:off x="849240" y="981000"/>
            <a:ext cx="8713800" cy="518472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 u="sng">
                <a:solidFill>
                  <a:srgbClr val="000000"/>
                </a:solidFill>
                <a:uFillTx/>
                <a:latin typeface="Candara"/>
                <a:ea typeface="Arial"/>
              </a:rPr>
              <a:t>Przesłankami do odrzucenia oferty (art. 149 ustawy)</a:t>
            </a: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73e87"/>
                </a:solidFill>
                <a:latin typeface="Candara"/>
                <a:ea typeface="Arial"/>
              </a:rPr>
              <a:t>1</a:t>
            </a: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)   złożoną przez świadczeniodawcę po termini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2)   zawierającą nieprawdziwe informacj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3)   jeżeli świadczeniodawca nie określił przedmiotu oferty lub nie podał  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       proponowanej liczby lub ceny świadczeń opieki zdrowotnej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4)   jeżeli zawiera rażąco niską cenę w stosunku do przedmiotu zamówieni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5)   jeżeli jest nieważna na podstawie odrębnych przepisów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6)   jeżeli świadczeniodawca złożył ofertę alternatywn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7)   jeżeli oferent lub oferta nie spełniają wymaganych warunków określonych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       w przepisach prawa oraz w szczegółowych warunkach umów o udzielanie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       świadczeń opieki zdrowotnej, o których mowa w art. 146 ust. 1 pkt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8)   złożoną przez świadczeniodawcę, z którym w okresie 5 lat poprzedzających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       ogłoszenie postępowania, została rozwiązana przez oddział wojewódzki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       Funduszu umowa o udzielanie świadczeń opieki zdrowotnej w zakresie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       lub rodzaju odpowiadającym przedmiotowi ogłoszenia, bez zachowania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       okresu wypowiedzenia z przyczyn leżących po stronie świadczeniodaw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rostokąt 1"/>
          <p:cNvSpPr/>
          <p:nvPr/>
        </p:nvSpPr>
        <p:spPr>
          <a:xfrm>
            <a:off x="987840" y="291960"/>
            <a:ext cx="793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6600"/>
                </a:solidFill>
                <a:latin typeface="Arial"/>
              </a:rPr>
              <a:t>Podstawy prawne przeprowadzenia procesu kontraktowania świadcze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ole tekstowe 2"/>
          <p:cNvSpPr/>
          <p:nvPr/>
        </p:nvSpPr>
        <p:spPr>
          <a:xfrm>
            <a:off x="128520" y="662040"/>
            <a:ext cx="9433080" cy="68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Rozporządzenie Ministra Zdrowia z dnia 5 sierpnia 2016 r. w sprawie szczegółowych kryteriów wyboru ofert w postępowaniu w sprawie zawarcia umów o udzielanie świadczeń opieki zdrowotnej (Dz.U.2016 poz.1372 z późn. zm.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Obowiązkowe ubezpieczenie odpowiedzialności cywilnej, stosowane odpowiednio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do formy prowadzonej działalności, wydane na podstawi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 algn="just">
              <a:lnSpc>
                <a:spcPct val="15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Rozporządzenia Ministra Finansów z dnia 22 grudnia 2011 r. w sprawie obowiązkowego ubezpieczenie odpowiedzialności cywilnej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odmiotu wykonującego działalność leczniczą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(Dz. U. z 2011 r., Nr 293, poz. 1729) </a:t>
            </a:r>
            <a:r>
              <a:rPr b="1" lang="pl-PL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lb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 algn="just">
              <a:lnSpc>
                <a:spcPct val="15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Rozporządzenia Ministra Finansów z dnia 22 grudnia 2011 r. w sprawie obowiązkowego ubezpieczenia odpowiedzialności cywilnej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świadczeniodawcy niebędącego podmiotem wykonującym działalność leczniczą udzielającego świadczeń opieki zdrowotnej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(Dz. U. z 2011 r., Nr 293, poz. 1728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Rectangle 1"/>
          <p:cNvSpPr/>
          <p:nvPr/>
        </p:nvSpPr>
        <p:spPr>
          <a:xfrm>
            <a:off x="-1800" y="1080"/>
            <a:ext cx="8848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e36c0a"/>
                </a:solidFill>
                <a:latin typeface="Arial"/>
                <a:ea typeface="Calibri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AutoShape 4"/>
          <p:cNvSpPr/>
          <p:nvPr/>
        </p:nvSpPr>
        <p:spPr>
          <a:xfrm>
            <a:off x="797040" y="1125360"/>
            <a:ext cx="8713800" cy="446436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 u="sng">
                <a:solidFill>
                  <a:srgbClr val="000000"/>
                </a:solidFill>
                <a:uFillTx/>
                <a:latin typeface="Candara"/>
                <a:ea typeface="Arial"/>
              </a:rPr>
              <a:t>Ofertę pozostawia się bez rozpoznania gdy</a:t>
            </a: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- została złożona w innym miejscu niż określone w ogłoszeniu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- format oferty jest niezgodny z formatem zapytań ofertowych i towarzyszących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  im wzorów ankiet obowiązujących w danym postępowaniu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- została sporządzona w innym języku niż język polski lub w sposób nieczyteln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rostokąt 5"/>
          <p:cNvSpPr/>
          <p:nvPr/>
        </p:nvSpPr>
        <p:spPr>
          <a:xfrm>
            <a:off x="849240" y="404640"/>
            <a:ext cx="871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862aa"/>
                </a:solidFill>
                <a:latin typeface="Candara"/>
              </a:rPr>
              <a:t>Sprawdzenie, czy oferta zawiera wymagane informac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rostokąt 6"/>
          <p:cNvSpPr/>
          <p:nvPr/>
        </p:nvSpPr>
        <p:spPr>
          <a:xfrm>
            <a:off x="920880" y="112536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 u="sng">
                <a:solidFill>
                  <a:srgbClr val="000000"/>
                </a:solidFill>
                <a:uFillTx/>
                <a:latin typeface="Candara"/>
                <a:ea typeface="Arial"/>
              </a:rPr>
              <a:t>Komisja sprawdza, czy oferta zawiera następujące informacje i dokumen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rostokąt 7"/>
          <p:cNvSpPr/>
          <p:nvPr/>
        </p:nvSpPr>
        <p:spPr>
          <a:xfrm>
            <a:off x="763560" y="1700280"/>
            <a:ext cx="40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Dane indentyfikacyjne ofere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rostokąt 8"/>
          <p:cNvSpPr/>
          <p:nvPr/>
        </p:nvSpPr>
        <p:spPr>
          <a:xfrm>
            <a:off x="992160" y="213372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Ofertę cenow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AutoShape 4"/>
          <p:cNvSpPr/>
          <p:nvPr/>
        </p:nvSpPr>
        <p:spPr>
          <a:xfrm>
            <a:off x="992160" y="2492280"/>
            <a:ext cx="8137440" cy="72072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Czy ofertę cenową zapisaną w formie elektronicznej można odczytać i zaimportować do systemu informatyczneg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rostokąt 14"/>
          <p:cNvSpPr/>
          <p:nvPr/>
        </p:nvSpPr>
        <p:spPr>
          <a:xfrm>
            <a:off x="992160" y="328464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Ankiety zawierające dane dla określonego rodzaju lub zakresu świadcze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AutoShape 4"/>
          <p:cNvSpPr/>
          <p:nvPr/>
        </p:nvSpPr>
        <p:spPr>
          <a:xfrm>
            <a:off x="992160" y="3716280"/>
            <a:ext cx="8137440" cy="50472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Określone w szczegółowych materiałach informacyjny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rostokąt 16"/>
          <p:cNvSpPr/>
          <p:nvPr/>
        </p:nvSpPr>
        <p:spPr>
          <a:xfrm>
            <a:off x="992160" y="4508640"/>
            <a:ext cx="891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4. </a:t>
            </a: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Czy oferta </a:t>
            </a: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(każda strona) </a:t>
            </a: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została podpisana przez osoby uprawnione 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     do reprezentowania ofere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rostokąt 18"/>
          <p:cNvSpPr/>
          <p:nvPr/>
        </p:nvSpPr>
        <p:spPr>
          <a:xfrm>
            <a:off x="992160" y="537372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5. </a:t>
            </a: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Czy kolejne strony oferty zostały opatrzone numerem kolejny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Rectangle 1"/>
          <p:cNvSpPr/>
          <p:nvPr/>
        </p:nvSpPr>
        <p:spPr>
          <a:xfrm>
            <a:off x="-1800" y="1080"/>
            <a:ext cx="8848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e36c0a"/>
                </a:solidFill>
                <a:latin typeface="Arial"/>
                <a:ea typeface="Calibri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rostokąt 7"/>
          <p:cNvSpPr/>
          <p:nvPr/>
        </p:nvSpPr>
        <p:spPr>
          <a:xfrm>
            <a:off x="704880" y="404640"/>
            <a:ext cx="86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6.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Oświadczenie o wpisie do właściwych rejestr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AutoShape 4"/>
          <p:cNvSpPr/>
          <p:nvPr/>
        </p:nvSpPr>
        <p:spPr>
          <a:xfrm>
            <a:off x="704880" y="887400"/>
            <a:ext cx="8713800" cy="360036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1. Oświadczenie o wpisie do właściwych rejestrów, według wzoru stanowiącego załącznik „Oświadczenie o wpisach do rejestrów” do aktualnego zarządzenia w sprawie warunków postępowania dotyczących zawierania umów o udzielanie świadczeń opieki zdrowotnej – rejestr podmiotów działalności leczniczej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2. Oświadczenie o wpisie do właściwych rejestrów, według wzoru stanowiącego załącznik „Oświadczenie o wpisach do rejestrów” do aktualnego zarządzenia w sprawie warunków postępowania dotyczących zawierania umów o udzielanie świadczeń opieki zdrowotnej – krajowy rejestr sądow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3. Oświadczenie o wpisie do właściwych rejestrów, według wzoru stanowiącego załącznik „Oświadczenie o wpisach do rejestrów” do aktualnego zarządzenia w sprawie warunków postępowania dotyczących zawierania umów o udzielanie świadczeń opieki zdrowotnej – ewidencja działalności gospodarczej lub centralna ewidencja i informacja o działalności gospodarczej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rostokąt 10"/>
          <p:cNvSpPr/>
          <p:nvPr/>
        </p:nvSpPr>
        <p:spPr>
          <a:xfrm>
            <a:off x="704880" y="4602240"/>
            <a:ext cx="84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. </a:t>
            </a: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Kopia umowy spółki cywilnej lub wyciąg z tej umow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AutoShape 4"/>
          <p:cNvSpPr/>
          <p:nvPr/>
        </p:nvSpPr>
        <p:spPr>
          <a:xfrm>
            <a:off x="704880" y="5084640"/>
            <a:ext cx="8496360" cy="108108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Zawierający postanowienia o zasadach reprezentacji spółki albo uchwała wspólników spółki cywilnej w przedmiocie zasad reprezentacji spółki – w przypadku zakładów opieki zdrowotnej, dla której organem założycielskim jest spółka cywilna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Rectangle 1"/>
          <p:cNvSpPr/>
          <p:nvPr/>
        </p:nvSpPr>
        <p:spPr>
          <a:xfrm>
            <a:off x="-1800" y="1080"/>
            <a:ext cx="8848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e36c0a"/>
                </a:solidFill>
                <a:latin typeface="Arial"/>
                <a:ea typeface="Calibri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rostokąt 5"/>
          <p:cNvSpPr/>
          <p:nvPr/>
        </p:nvSpPr>
        <p:spPr>
          <a:xfrm>
            <a:off x="920880" y="260280"/>
            <a:ext cx="871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8. </a:t>
            </a: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Kopia polisy lub innego dokumentu potwierdzającego zawarcie przez oferenta    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    umowy ubezpieczenia  odpowiedzialności cywilnej oferenta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AutoShape 4"/>
          <p:cNvSpPr/>
          <p:nvPr/>
        </p:nvSpPr>
        <p:spPr>
          <a:xfrm>
            <a:off x="920880" y="1052640"/>
            <a:ext cx="8496000" cy="172692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…</a:t>
            </a: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za szkody wyrządzone w związku z udzielaniem świadczeń w zakresie przedmiotu postępowania na okres obowiązywania umowy; oferent może złożyć także umowę przedwstępną lub inny dokument, w tym także oświadczenie, stwierdzające, że umowa ubezpieczenia odpowiedzialności cywilnej zostanie zawarta na okres obowiązywania umow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rostokąt 7"/>
          <p:cNvSpPr/>
          <p:nvPr/>
        </p:nvSpPr>
        <p:spPr>
          <a:xfrm>
            <a:off x="920880" y="292428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9. </a:t>
            </a: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W przypadku gdy oferent jest reprezentowany przez pełnomocnika 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     – pełnomocnictwo do składania oświadczeń woli w imieniu oferen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AutoShape 4"/>
          <p:cNvSpPr/>
          <p:nvPr/>
        </p:nvSpPr>
        <p:spPr>
          <a:xfrm>
            <a:off x="920880" y="3716280"/>
            <a:ext cx="8496000" cy="79236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Udzielone przez osobę lub osoby, których prawo do reprezentowania oferenta wynika z dokumentów przedstawionych wraz z ofert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rostokąt 10"/>
          <p:cNvSpPr/>
          <p:nvPr/>
        </p:nvSpPr>
        <p:spPr>
          <a:xfrm>
            <a:off x="920880" y="4653000"/>
            <a:ext cx="85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10. </a:t>
            </a: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Inne dokumenty lub oświadczenia, jeżeli obowiązek ich dołączenia do oferty 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      określony został w szczegółowych materiałach informacyjn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Rectangle 1"/>
          <p:cNvSpPr/>
          <p:nvPr/>
        </p:nvSpPr>
        <p:spPr>
          <a:xfrm>
            <a:off x="-1800" y="1080"/>
            <a:ext cx="8848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e36c0a"/>
                </a:solidFill>
                <a:latin typeface="Arial"/>
                <a:ea typeface="Calibri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AutoShape 4"/>
          <p:cNvSpPr/>
          <p:nvPr/>
        </p:nvSpPr>
        <p:spPr>
          <a:xfrm>
            <a:off x="920880" y="404640"/>
            <a:ext cx="8496000" cy="720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11. </a:t>
            </a: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W przypadku, gdy Fundusz dopuszcza zlecanie podwykonawcom udzielania 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     świadczeń opieki zdrowotnej objętych umową:</a:t>
            </a:r>
            <a:r>
              <a:rPr b="1" i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AutoShape 4"/>
          <p:cNvSpPr/>
          <p:nvPr/>
        </p:nvSpPr>
        <p:spPr>
          <a:xfrm>
            <a:off x="776160" y="1341360"/>
            <a:ext cx="8496360" cy="352764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- Wykaz podwykonawców spełniających wymagania określone w szczegółowych materiałach informacyjnych dotyczących danego  przedmiotu postępowan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- Kopia zawartej umowy (bez postanowień określających finansowanie) albo zobowiązanie podwykonawcy do zawarcia umowy z oferentem, zawierające zastrzeżenie o prawie Funduszu do przeprowadzenia kontrol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rostokąt 1"/>
          <p:cNvSpPr/>
          <p:nvPr/>
        </p:nvSpPr>
        <p:spPr>
          <a:xfrm>
            <a:off x="776160" y="549360"/>
            <a:ext cx="849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862aa"/>
                </a:solidFill>
                <a:latin typeface="Arial"/>
              </a:rPr>
              <a:t>Co dzieje się w przypadku zidentyfikowania brakó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AutoShape 4"/>
          <p:cNvSpPr/>
          <p:nvPr/>
        </p:nvSpPr>
        <p:spPr>
          <a:xfrm>
            <a:off x="920880" y="1341360"/>
            <a:ext cx="8496000" cy="424836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Zidentyfikowanie braku któregokolwiek z wymaganych dokumentów bądź oświadczeń, skutkuje wezwaniem świadczeniodawcy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do uzupełnienia </a:t>
            </a:r>
            <a:r>
              <a:rPr b="0" lang="pl-PL" sz="2000" spc="-1" strike="noStrike" u="sng">
                <a:solidFill>
                  <a:srgbClr val="000000"/>
                </a:solidFill>
                <a:uFillTx/>
                <a:latin typeface="Candara"/>
                <a:ea typeface="Arial"/>
              </a:rPr>
              <a:t>braków formalnych</a:t>
            </a: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Wezwanie do uzupełnienia braków formalnych ma </a:t>
            </a:r>
            <a:r>
              <a:rPr b="0" lang="pl-PL" sz="2000" spc="-1" strike="noStrike" u="sng">
                <a:solidFill>
                  <a:srgbClr val="000000"/>
                </a:solidFill>
                <a:uFillTx/>
                <a:latin typeface="Candara"/>
                <a:ea typeface="Arial"/>
              </a:rPr>
              <a:t>formę pisemną</a:t>
            </a: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. Komisja wskazuje, jakie dokumenty należy uzupełnić i w jakim termini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Nie uzupełnienie braków formalnych, nie przedstawienia ich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w wyznaczonym terminie bądź przedstawienie informacji niepełnych, niezgodnych ze stanem faktycznym </a:t>
            </a:r>
            <a:r>
              <a:rPr b="1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skutkuje odrzuceniem oferty</a:t>
            </a: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. Komisja wzywa oferenta  - pod rygorem odrzucenia oferty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- do ich usunięcia/uzupełnienia w wyznaczonym termini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– </a:t>
            </a:r>
            <a:r>
              <a:rPr b="1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minimum 2 dni robocze od dnia wezwan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rostokąt 1"/>
          <p:cNvSpPr/>
          <p:nvPr/>
        </p:nvSpPr>
        <p:spPr>
          <a:xfrm>
            <a:off x="920880" y="47628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862aa"/>
                </a:solidFill>
                <a:latin typeface="Arial"/>
              </a:rPr>
              <a:t>Wersja elektroniczna a wersja papierowa formular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AutoShape 4"/>
          <p:cNvSpPr/>
          <p:nvPr/>
        </p:nvSpPr>
        <p:spPr>
          <a:xfrm>
            <a:off x="920880" y="1628640"/>
            <a:ext cx="8496000" cy="381636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Komisja wczytuje złożoną przez świadczeniodawcę na nośniku elektronicznym ofertę do systemu informatycznego i sprawdza, czy forma elektroniczna oferty jest zgodna ze złożoną wersją papierową oferty.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W przypadku, gdy nośnika elektronicznego nie można odczytać bądź wersja elektroniczna i papierowa oferty nie są zgodne, komisja wzywa oferenta do uzupełnienia braków tj. dostarczenia nowego nośnika zawierającego ofertę w formie elektronicznej zgodną ze złożoną wersją papierow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Documents"/>
          <p:cNvSpPr/>
          <p:nvPr/>
        </p:nvSpPr>
        <p:spPr>
          <a:xfrm>
            <a:off x="6465960" y="4653000"/>
            <a:ext cx="1352520" cy="1809720"/>
          </a:xfrm>
          <a:custGeom>
            <a:avLst/>
            <a:gdLst>
              <a:gd name="textAreaLeft" fmla="*/ 102960 w 1352520"/>
              <a:gd name="textAreaRight" fmla="*/ 1034640 w 1352520"/>
              <a:gd name="textAreaTop" fmla="*/ 349200 h 1809720"/>
              <a:gd name="textAreaBottom" fmla="*/ 1450800 h 1809720"/>
            </a:gdLst>
            <a:ahLst/>
            <a:rect l="textAreaLeft" t="textAreaTop" r="textAreaRight" b="textAreaBottom"/>
            <a:pathLst>
              <a:path w="21600" h="21600">
                <a:moveTo>
                  <a:pt x="0" y="18014"/>
                </a:moveTo>
                <a:lnTo>
                  <a:pt x="0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68" y="1428"/>
                </a:lnTo>
                <a:lnTo>
                  <a:pt x="3468" y="0"/>
                </a:lnTo>
                <a:lnTo>
                  <a:pt x="21653" y="0"/>
                </a:lnTo>
                <a:lnTo>
                  <a:pt x="21653" y="18828"/>
                </a:lnTo>
                <a:lnTo>
                  <a:pt x="19954" y="188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16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  <a:path w="21600" h="21600">
                <a:moveTo>
                  <a:pt x="3486" y="1428"/>
                </a:moveTo>
                <a:lnTo>
                  <a:pt x="19954" y="14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86" y="1428"/>
                </a:lnTo>
                <a:close/>
              </a:path>
              <a:path w="21600" h="21600">
                <a:moveTo>
                  <a:pt x="0" y="18014"/>
                </a:moveTo>
                <a:lnTo>
                  <a:pt x="4434" y="180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rostokąt 1"/>
          <p:cNvSpPr/>
          <p:nvPr/>
        </p:nvSpPr>
        <p:spPr>
          <a:xfrm>
            <a:off x="1784520" y="333360"/>
            <a:ext cx="69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862aa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2862aa"/>
                </a:solidFill>
                <a:latin typeface="Candara"/>
              </a:rPr>
              <a:t>Dokumenty formalno-praw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rostokąt 3"/>
          <p:cNvSpPr/>
          <p:nvPr/>
        </p:nvSpPr>
        <p:spPr>
          <a:xfrm>
            <a:off x="1352520" y="105264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00"/>
                </a:solidFill>
                <a:uFillTx/>
                <a:latin typeface="Candara"/>
                <a:ea typeface="Arial"/>
              </a:rPr>
              <a:t>W części dotyczącej oceny zgodności złożonej oferty z dokumentami formalno-prawnymi komisja sprawdza w szczególności</a:t>
            </a: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AutoShape 4"/>
          <p:cNvSpPr/>
          <p:nvPr/>
        </p:nvSpPr>
        <p:spPr>
          <a:xfrm>
            <a:off x="992160" y="1773360"/>
            <a:ext cx="3960720" cy="208728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zgodność oświadczenia świadczeniodawcy dotyczącego wpisów do rejestró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w publicznym rejestrze teleinformatyczn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AutoShape 4"/>
          <p:cNvSpPr/>
          <p:nvPr/>
        </p:nvSpPr>
        <p:spPr>
          <a:xfrm>
            <a:off x="5097600" y="1773360"/>
            <a:ext cx="3958920" cy="216036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czy specjalności komórek organizacyjnych i dziedziny medyczne są odpowiednie dla realizacji zakresu, na który została złożona ofe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rostokąt 6"/>
          <p:cNvSpPr/>
          <p:nvPr/>
        </p:nvSpPr>
        <p:spPr>
          <a:xfrm>
            <a:off x="704880" y="4292640"/>
            <a:ext cx="8928000" cy="18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W przypadku stwierdzenia niezgodności rejestru wskazanego w oświadczeniu z rejestrem publicznym lub gdy rejestr nie zawiera informacji o specjalności komórek organizacyjnych i dziedziny medycznej odpowiedniej dla realizacji zakresu, komisja przygotowuje stosowną adnotację oraz wzywa oferenta do uzupełnienia braku tj. przedłożenia aktualnego wypisu z rejestru podmiotów wykonujących działalność leczniczą w wersji papierowej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Nie uzupełnienie braku, nie przedstawienie w wyznaczonym terminie, bądź przedstawienie informacji nieprawdziwych skutkuje odrzuceniem oferty</a:t>
            </a: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rostokąt 1"/>
          <p:cNvSpPr/>
          <p:nvPr/>
        </p:nvSpPr>
        <p:spPr>
          <a:xfrm>
            <a:off x="2958840" y="333360"/>
            <a:ext cx="45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862aa"/>
                </a:solidFill>
                <a:latin typeface="Arial"/>
              </a:rPr>
              <a:t>Część niejawna postępowa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AutoShape 4"/>
          <p:cNvSpPr/>
          <p:nvPr/>
        </p:nvSpPr>
        <p:spPr>
          <a:xfrm>
            <a:off x="920880" y="1125360"/>
            <a:ext cx="8496000" cy="266400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Oferty, które w części jawnej postępowania nie zostały odrzucone,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bądź nie pozostały bez rozpatrzenia, uczestniczą w części niejawnej postępowani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Ocena </a:t>
            </a: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ofert dokonywana w </a:t>
            </a:r>
            <a:r>
              <a:rPr b="1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części niejawnej </a:t>
            </a: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dotyczy </a:t>
            </a:r>
            <a:r>
              <a:rPr b="1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potencjału świadczeniodawcy </a:t>
            </a: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(zasoby kadrowo -, sprzętowo-, lokalowe) </a:t>
            </a:r>
            <a:r>
              <a:rPr b="0" lang="pl-PL" sz="2000" spc="-1" strike="noStrike" u="sng">
                <a:solidFill>
                  <a:srgbClr val="000000"/>
                </a:solidFill>
                <a:uFillTx/>
                <a:latin typeface="Candara"/>
                <a:ea typeface="Arial"/>
              </a:rPr>
              <a:t>oraz </a:t>
            </a:r>
            <a:r>
              <a:rPr b="1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spełnienia wymagań mających wpływ na jakość udzielanych świadczeń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AutoShape 4"/>
          <p:cNvSpPr/>
          <p:nvPr/>
        </p:nvSpPr>
        <p:spPr>
          <a:xfrm>
            <a:off x="920880" y="4365720"/>
            <a:ext cx="8496000" cy="1800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2862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rostokąt 4"/>
          <p:cNvSpPr/>
          <p:nvPr/>
        </p:nvSpPr>
        <p:spPr>
          <a:xfrm>
            <a:off x="1208160" y="4724280"/>
            <a:ext cx="7921440" cy="20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Szczegółowe kryteria oceny ofert określa Rozporządzenie Ministra Zdrowia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z dnia 5 sierpnia 2016 r. w sprawie szczegółowych kryteriów wyboru ofert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w postępowaniu w sprawie zawarcia umów o udzielanie świadczeń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opieki zdrowotnej (Dz.U.2016 poz.1372 z późn. zm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Rectangle 2"/>
          <p:cNvSpPr/>
          <p:nvPr/>
        </p:nvSpPr>
        <p:spPr>
          <a:xfrm>
            <a:off x="1208160" y="620640"/>
            <a:ext cx="770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pl-PL" sz="3200" spc="-1" strike="noStrike">
                <a:solidFill>
                  <a:srgbClr val="ff6600"/>
                </a:solidFill>
                <a:latin typeface="Candara"/>
                <a:ea typeface="Arial"/>
              </a:rPr>
              <a:t>Uwagi praktyczne 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AutoShape 4"/>
          <p:cNvSpPr/>
          <p:nvPr/>
        </p:nvSpPr>
        <p:spPr>
          <a:xfrm>
            <a:off x="728640" y="1628640"/>
            <a:ext cx="8713800" cy="244800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W przypadku powzięcia przez komisję konkursową uzasadnionego podejrzenia              o celowym oraz  mającym wpływ na wybór oferty podania nieprawdziwych danych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w ofercie tzw. „kłamstwo ofertowe” istnieje obowiązek złożenia stosownego zawiadomienia do Prokuratury. Zgodnie bowiem, z art. 193 pkt 7 ustawy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o świadczeniach opieki zdrowotnej finansowanych ze środków publicznych: </a:t>
            </a:r>
            <a:br>
              <a:rPr sz="1800"/>
            </a:br>
            <a:r>
              <a:rPr b="0" i="1" lang="pl-PL" sz="1800" spc="-1" strike="noStrike">
                <a:solidFill>
                  <a:srgbClr val="000000"/>
                </a:solidFill>
                <a:latin typeface="Candara"/>
              </a:rPr>
              <a:t>Kto podaje w ofercie złożonej w postępowaniu w sprawie zawarcia umowy o udzielanie świadczeń opieki zdrowotnej finansowanych przez Fundusz nieprawdziwe informacje </a:t>
            </a:r>
            <a:br>
              <a:rPr sz="1800"/>
            </a:br>
            <a:r>
              <a:rPr b="0" i="1" lang="pl-PL" sz="1800" spc="-1" strike="noStrike">
                <a:solidFill>
                  <a:srgbClr val="000000"/>
                </a:solidFill>
                <a:latin typeface="Candara"/>
              </a:rPr>
              <a:t>i dane, podlega karze grzyw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66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 txBox="1"/>
          <p:nvPr/>
        </p:nvSpPr>
        <p:spPr>
          <a:xfrm>
            <a:off x="344520" y="2060640"/>
            <a:ext cx="90662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Obwieszczenie Ministra Zdrowia z dnia 22 września 2015 r. w sprawie ogłoszenia jednolitego tekstu rozporządzenia Ministra Zdrowia w sprawie świadczeń gwarantowanych z zakresu świadczeń pielęgnacyjnych i opiekuńczych w ramach opieki długoterminowej (Dz.U. z 2015 r. poz. 1658),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 algn="just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ZARZĄDZENIE NR 45/2018/DSOZ PREZESA NARODOWEGO FUNDUSZU ZDROWIA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z dnia 30 maja 2018 r. w sprawie określenia warunków zawierania i realizacji umów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w rodzaju świadczenia pielęgnacyjne i opiekuńcze w ramach opieki długoterminowej,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 algn="just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ZARZĄDZENIE Nr 73/2018/DSOZ PREZESA NARODOWEGO FUNDUSZU ZDROWIA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z dnia 30 lipca 2018 r. zmieniające zarządzenie w sprawie określenia warunków zawierania i realizacji umów w rodzaju świadczenia pielęgnacyjne i opiekuńcze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w ramach opieki długoterminowej,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 algn="just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95000" y="337680"/>
            <a:ext cx="8915400" cy="150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ndara"/>
              </a:rPr>
              <a:t>Akty prawne dotyczące rodzaju: </a:t>
            </a:r>
            <a:br>
              <a:rPr sz="2400"/>
            </a:br>
            <a:r>
              <a:rPr b="1" lang="pl-PL" sz="2400" spc="-1" strike="noStrike" u="sng">
                <a:solidFill>
                  <a:srgbClr val="ff0000"/>
                </a:solidFill>
                <a:uFillTx/>
                <a:latin typeface="Candara"/>
              </a:rPr>
              <a:t>ŚWIADCZENIA PIELĘGNACYJNE I OPIEKUŃCZE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Rectangle 2"/>
          <p:cNvSpPr/>
          <p:nvPr/>
        </p:nvSpPr>
        <p:spPr>
          <a:xfrm>
            <a:off x="1208160" y="620640"/>
            <a:ext cx="770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pl-PL" sz="3200" spc="-1" strike="noStrike">
                <a:solidFill>
                  <a:srgbClr val="ff6600"/>
                </a:solidFill>
                <a:latin typeface="Candara"/>
                <a:ea typeface="Arial"/>
              </a:rPr>
              <a:t>Uwagi praktyczne 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AutoShape 4"/>
          <p:cNvSpPr/>
          <p:nvPr/>
        </p:nvSpPr>
        <p:spPr>
          <a:xfrm>
            <a:off x="728640" y="1628640"/>
            <a:ext cx="8713800" cy="396108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W przypadku przedstawienia przez świadczeniodawcę nieprawdziwych lub niezgodnych ze stanem faktycznym danych lub informacji,  mających istotny wpływ na zawarcie umowy w toku postępowania w sprawie zawarcia umowy Dyrektor oddziału wojewódzkiego Funduszu może rozwiązać umowę w części albo w całości bez zachowania okresu wypowiedzenia (§ 36 ust 1. pkt 7 Ogólnych warunków umów o udzielanie świadczeń opieki zdrowotnej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Z drugiej strony, rozwiązanie umowy o udzielanie świadczeń opieki zdrowotnej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w określonym rodzaju lub zakresie w trybie natychmiastowym z przyczyn leżących po stronie świadczeniodawcy stanowi podstawę obligatoryjnego odrzucenia oferty (art. 149 ust. 1 pkt.8 </a:t>
            </a:r>
            <a:r>
              <a:rPr b="0" i="1" lang="pl-PL" sz="1800" spc="-1" strike="noStrike">
                <a:solidFill>
                  <a:srgbClr val="000000"/>
                </a:solidFill>
                <a:latin typeface="Candara"/>
              </a:rPr>
              <a:t>ustawy o świadczeniach</a:t>
            </a: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66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1"/>
          <p:cNvSpPr/>
          <p:nvPr/>
        </p:nvSpPr>
        <p:spPr>
          <a:xfrm>
            <a:off x="0" y="28080"/>
            <a:ext cx="9208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e36c0a"/>
                </a:solidFill>
                <a:latin typeface="Arial"/>
                <a:ea typeface="Calibri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rostokąt 6"/>
          <p:cNvSpPr/>
          <p:nvPr/>
        </p:nvSpPr>
        <p:spPr>
          <a:xfrm>
            <a:off x="1496880" y="62064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862aa"/>
                </a:solidFill>
                <a:latin typeface="Arial"/>
              </a:rPr>
              <a:t>Zanim złożysz ofert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rostokąt 7"/>
          <p:cNvSpPr/>
          <p:nvPr/>
        </p:nvSpPr>
        <p:spPr>
          <a:xfrm>
            <a:off x="329040" y="1268280"/>
            <a:ext cx="50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00"/>
                </a:solidFill>
                <a:uFillTx/>
                <a:latin typeface="Candara"/>
                <a:ea typeface="Arial"/>
              </a:rPr>
              <a:t>Przed złożeniem oferty należy sprawdzić, czy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rostokąt 10"/>
          <p:cNvSpPr/>
          <p:nvPr/>
        </p:nvSpPr>
        <p:spPr>
          <a:xfrm>
            <a:off x="1568520" y="1700280"/>
            <a:ext cx="74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została przygotowana przy użyciu właściwej wersji oprogramowania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o którym mowa w regulaminie technicznym przygotowania ofert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rostokąt 12"/>
          <p:cNvSpPr/>
          <p:nvPr/>
        </p:nvSpPr>
        <p:spPr>
          <a:xfrm>
            <a:off x="1676520" y="255888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pobrany został właściwy plik z zapytaniem ofertowy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rostokąt 16"/>
          <p:cNvSpPr/>
          <p:nvPr/>
        </p:nvSpPr>
        <p:spPr>
          <a:xfrm>
            <a:off x="689040" y="3141720"/>
            <a:ext cx="9217080" cy="28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wszystkie formularze ofertowe zostały wypełnion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wydruk papierowy formularzy ofertowych i wersja elektroniczna  zapisana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                   na nośniku elektronicznym są tej samej wersj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wszystkie strony formularza oferty są ponumerowane i podpisane przez osobę </a:t>
            </a: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uprawnioną do reprezentowania świadczeniodawcy zgodnie z załączonym do </a:t>
            </a: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oferty wzorem podpisów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Strzałka w prawo 18"/>
          <p:cNvSpPr/>
          <p:nvPr/>
        </p:nvSpPr>
        <p:spPr>
          <a:xfrm>
            <a:off x="992160" y="1916280"/>
            <a:ext cx="432000" cy="217440"/>
          </a:xfrm>
          <a:prstGeom prst="rightArrow">
            <a:avLst>
              <a:gd name="adj1" fmla="val 50000"/>
              <a:gd name="adj2" fmla="val 50037"/>
            </a:avLst>
          </a:prstGeom>
          <a:solidFill>
            <a:srgbClr val="2b974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Strzałka w prawo 19"/>
          <p:cNvSpPr/>
          <p:nvPr/>
        </p:nvSpPr>
        <p:spPr>
          <a:xfrm>
            <a:off x="992160" y="2637000"/>
            <a:ext cx="432000" cy="215640"/>
          </a:xfrm>
          <a:prstGeom prst="rightArrow">
            <a:avLst>
              <a:gd name="adj1" fmla="val 50000"/>
              <a:gd name="adj2" fmla="val 50083"/>
            </a:avLst>
          </a:prstGeom>
          <a:solidFill>
            <a:srgbClr val="2b974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Strzałka w prawo 20"/>
          <p:cNvSpPr/>
          <p:nvPr/>
        </p:nvSpPr>
        <p:spPr>
          <a:xfrm>
            <a:off x="992160" y="321300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2b974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Strzałka w prawo 21"/>
          <p:cNvSpPr/>
          <p:nvPr/>
        </p:nvSpPr>
        <p:spPr>
          <a:xfrm>
            <a:off x="992160" y="4005360"/>
            <a:ext cx="432000" cy="215640"/>
          </a:xfrm>
          <a:prstGeom prst="rightArrow">
            <a:avLst>
              <a:gd name="adj1" fmla="val 50000"/>
              <a:gd name="adj2" fmla="val 50083"/>
            </a:avLst>
          </a:prstGeom>
          <a:solidFill>
            <a:srgbClr val="2b974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Strzałka w prawo 22"/>
          <p:cNvSpPr/>
          <p:nvPr/>
        </p:nvSpPr>
        <p:spPr>
          <a:xfrm>
            <a:off x="992160" y="508464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2b974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Rectangle 1"/>
          <p:cNvSpPr/>
          <p:nvPr/>
        </p:nvSpPr>
        <p:spPr>
          <a:xfrm>
            <a:off x="-1800" y="1080"/>
            <a:ext cx="8848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e36c0a"/>
                </a:solidFill>
                <a:latin typeface="Arial"/>
                <a:ea typeface="Calibri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rostokąt 6"/>
          <p:cNvSpPr/>
          <p:nvPr/>
        </p:nvSpPr>
        <p:spPr>
          <a:xfrm>
            <a:off x="1712880" y="668160"/>
            <a:ext cx="7128000" cy="51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nośnik, na którym została zapisana wersja elektroniczna oferty jest prawidłowo oznaczon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wszystkie dodatkowe dokumenty i oświadczenia zostały załączone, ponumerowane i podpisane przez osobę uprawnioną do reprezentowania świadczeniodawcy zgodnie z załączonym do oferty wzorem podpisów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załączone dokumenty stanowiące kserokopie są potwierdzone                  „za zgodność z oryginałem”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wydruk formularza oferty (z ponumerowanymi stronami i podpisami) wraz z nośnikiem elektronicznym i wersja elektroniczna oferty zostały umieszczone w oddzielnej zaklejonej kopercie oznaczonej słowem „oferta”, nazwą i adresem świadczeniodawcy oraz kodem                           i przedmiotem postępowania (zgodnie z ogłoszeniem o postępowaniu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Strzałka w prawo 7"/>
          <p:cNvSpPr/>
          <p:nvPr/>
        </p:nvSpPr>
        <p:spPr>
          <a:xfrm>
            <a:off x="992160" y="83664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2b974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Strzałka w prawo 8"/>
          <p:cNvSpPr/>
          <p:nvPr/>
        </p:nvSpPr>
        <p:spPr>
          <a:xfrm>
            <a:off x="992160" y="215748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2b974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Strzałka w prawo 10"/>
          <p:cNvSpPr/>
          <p:nvPr/>
        </p:nvSpPr>
        <p:spPr>
          <a:xfrm>
            <a:off x="992160" y="3284640"/>
            <a:ext cx="432000" cy="215640"/>
          </a:xfrm>
          <a:prstGeom prst="rightArrow">
            <a:avLst>
              <a:gd name="adj1" fmla="val 50000"/>
              <a:gd name="adj2" fmla="val 50083"/>
            </a:avLst>
          </a:prstGeom>
          <a:solidFill>
            <a:srgbClr val="2b974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Strzałka w prawo 11"/>
          <p:cNvSpPr/>
          <p:nvPr/>
        </p:nvSpPr>
        <p:spPr>
          <a:xfrm>
            <a:off x="992160" y="479736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2b974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rostokąt 1"/>
          <p:cNvSpPr/>
          <p:nvPr/>
        </p:nvSpPr>
        <p:spPr>
          <a:xfrm>
            <a:off x="1136520" y="2967120"/>
            <a:ext cx="77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Uwag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Informacje zawarte w opracowaniu nie stanowią źródła praw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Rectangle 2"/>
          <p:cNvSpPr/>
          <p:nvPr/>
        </p:nvSpPr>
        <p:spPr>
          <a:xfrm>
            <a:off x="631800" y="2060640"/>
            <a:ext cx="878508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2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6600"/>
                </a:solidFill>
                <a:latin typeface="Candara"/>
                <a:ea typeface="Arial"/>
              </a:rPr>
              <a:t>Dziękuję za uwagę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Rectangle 2"/>
          <p:cNvSpPr/>
          <p:nvPr/>
        </p:nvSpPr>
        <p:spPr>
          <a:xfrm>
            <a:off x="5240160" y="4365720"/>
            <a:ext cx="4176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Rectangle 2"/>
          <p:cNvSpPr/>
          <p:nvPr/>
        </p:nvSpPr>
        <p:spPr>
          <a:xfrm>
            <a:off x="5168880" y="5084640"/>
            <a:ext cx="3600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 txBox="1"/>
          <p:nvPr/>
        </p:nvSpPr>
        <p:spPr>
          <a:xfrm>
            <a:off x="495000" y="2674440"/>
            <a:ext cx="89154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 algn="just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Obwieszczenie Ministra Zdrowia z dnia 28 marca 2018 r. w sprawie ogłoszenia jednolitego tekstu rozporządzenia Ministra Zdrowia w sprawie świadczeń gwarantowanych z zakresu opieki paliatywnej i hospicyjnej (Dz.U. z 2018 r. poz. 742),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 algn="just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 algn="just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Rozporządzenie Ministra Zdrowia z dnia 12 czerwca 2018 r. zmieniające rozporządzenie w sprawie świadczeń gwarantowanych z zakresu opieki paliatywnej i hospicyjnej,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 algn="just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 algn="just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ZARZĄDZENIE NR 74/2018/DSOZ PREZESA NARODOWEGO FUNDUSZU ZDROWIA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z dnia 31 lipca 2018 r. w sprawie określenia warunków zawierania i realizacji umów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w rodzaju opieka paliatywna i hospicyjna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ndara"/>
              </a:rPr>
              <a:t>Akty prawne dotyczące rodzaju: </a:t>
            </a:r>
            <a:br>
              <a:rPr sz="2400"/>
            </a:br>
            <a:r>
              <a:rPr b="1" lang="pl-PL" sz="2400" spc="-1" strike="noStrike" u="sng">
                <a:solidFill>
                  <a:srgbClr val="ff0000"/>
                </a:solidFill>
                <a:uFillTx/>
                <a:latin typeface="Candara"/>
              </a:rPr>
              <a:t>OPIEKA PALIATYWNA I HOSPICYJNA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Rectangle 1"/>
          <p:cNvSpPr/>
          <p:nvPr/>
        </p:nvSpPr>
        <p:spPr>
          <a:xfrm>
            <a:off x="-1800" y="1080"/>
            <a:ext cx="8848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e36c0a"/>
                </a:solidFill>
                <a:latin typeface="Arial"/>
                <a:ea typeface="Calibri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rostokąt 4"/>
          <p:cNvSpPr/>
          <p:nvPr/>
        </p:nvSpPr>
        <p:spPr>
          <a:xfrm>
            <a:off x="2476440" y="3105000"/>
            <a:ext cx="4953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rostokąt 8"/>
          <p:cNvSpPr/>
          <p:nvPr/>
        </p:nvSpPr>
        <p:spPr>
          <a:xfrm>
            <a:off x="992160" y="69228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862aa"/>
                </a:solidFill>
                <a:latin typeface="Arial"/>
              </a:rPr>
              <a:t>Gdzie i kiedy można zapoznać się ze szczegółowymi </a:t>
            </a:r>
            <a:r>
              <a:rPr b="1" lang="pl-PL" sz="2400" spc="-1" strike="noStrike">
                <a:solidFill>
                  <a:srgbClr val="2862aa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2862aa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2862aa"/>
                </a:solidFill>
                <a:latin typeface="Arial"/>
              </a:rPr>
              <a:t>warunkami postępowania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rostokąt 11"/>
          <p:cNvSpPr/>
          <p:nvPr/>
        </p:nvSpPr>
        <p:spPr>
          <a:xfrm>
            <a:off x="992160" y="2565360"/>
            <a:ext cx="8569440" cy="22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Ogłoszenie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zawiera szczegółowe informacje, od kiedy i gdzie można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pobrać i zapoznać się z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ateriałami niezbędnymi do przygotowania ofert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którymi są w szczególnoś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- aplikacja do sporządzenia oferty w wersji elektronicznej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- plik z zapytaniem ofertowym do zaimplementowania do aplikacji ofertowej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- wzory formularzy ofertowych i oświadczeń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1"/>
          <p:cNvSpPr/>
          <p:nvPr/>
        </p:nvSpPr>
        <p:spPr>
          <a:xfrm>
            <a:off x="-1800" y="1080"/>
            <a:ext cx="8848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e36c0a"/>
                </a:solidFill>
                <a:latin typeface="Arial"/>
                <a:ea typeface="Calibri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rostokąt 8"/>
          <p:cNvSpPr/>
          <p:nvPr/>
        </p:nvSpPr>
        <p:spPr>
          <a:xfrm>
            <a:off x="2664000" y="155520"/>
            <a:ext cx="479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862aa"/>
                </a:solidFill>
                <a:latin typeface="Arial"/>
              </a:rPr>
              <a:t>Miejsce i termin składania ofe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AutoShape 4"/>
          <p:cNvSpPr/>
          <p:nvPr/>
        </p:nvSpPr>
        <p:spPr>
          <a:xfrm>
            <a:off x="857160" y="617400"/>
            <a:ext cx="8640720" cy="216396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Miejsce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 składania ofert zostaje precyzyjnie określone w ogłoszeniu postępowania.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Należy pamiętać, że wskazane w ogłoszeniu o konkursie ofert miejsce  do złożenia oferty jest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yłącznie uprawnione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do jej przyjęcia. Pozostawienie oferty w innym miejscu spowoduje pozostawienie oferty bez rozpoznani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Podobnie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termin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 złożenia oferty zostaje precyzyjnie określony w ogłoszeni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Następuje to najczęściej poprzez podanie konkretnej daty i godziny, do której należy złożyć oferty. Oferta złożona po wskazanym terminie podlega odrzuceni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Elipsa 11"/>
          <p:cNvSpPr/>
          <p:nvPr/>
        </p:nvSpPr>
        <p:spPr>
          <a:xfrm>
            <a:off x="2593800" y="2852640"/>
            <a:ext cx="4680000" cy="576360"/>
          </a:xfrm>
          <a:prstGeom prst="ellipse">
            <a:avLst/>
          </a:prstGeom>
          <a:noFill/>
          <a:ln w="9360">
            <a:solidFill>
              <a:srgbClr val="2862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Oferta może zostać złoż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rostokąt 16"/>
          <p:cNvSpPr/>
          <p:nvPr/>
        </p:nvSpPr>
        <p:spPr>
          <a:xfrm>
            <a:off x="6004080" y="381960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Za pośrednictwem pocz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rostokąt 18"/>
          <p:cNvSpPr/>
          <p:nvPr/>
        </p:nvSpPr>
        <p:spPr>
          <a:xfrm>
            <a:off x="1658880" y="3819600"/>
            <a:ext cx="139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Osobiśc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7" name="Łącznik prosty ze strzałką 20"/>
          <p:cNvCxnSpPr/>
          <p:nvPr/>
        </p:nvCxnSpPr>
        <p:spPr>
          <a:xfrm>
            <a:off x="6271920" y="3514320"/>
            <a:ext cx="181800" cy="20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58" name="Łącznik prosty ze strzałką 23"/>
          <p:cNvCxnSpPr/>
          <p:nvPr/>
        </p:nvCxnSpPr>
        <p:spPr>
          <a:xfrm flipH="1">
            <a:off x="3036240" y="3432240"/>
            <a:ext cx="30060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59" name="AutoShape 4"/>
          <p:cNvSpPr/>
          <p:nvPr/>
        </p:nvSpPr>
        <p:spPr>
          <a:xfrm>
            <a:off x="441360" y="4467240"/>
            <a:ext cx="4895640" cy="107640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W miejscu i w terminie wskazanym w ogłoszeniu o postępowaniu. Oferent wówczas otrzymuje potwierdzenie jej złożenia zawierające datę złożenia oraz numer z rejestru ofer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AutoShape 4"/>
          <p:cNvSpPr/>
          <p:nvPr/>
        </p:nvSpPr>
        <p:spPr>
          <a:xfrm>
            <a:off x="5450040" y="4500720"/>
            <a:ext cx="4160520" cy="158400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Ofertę przesłaną drogą pocztową uważa się za złożoną w terminie, jeżeli data stempla pocztowego (data nadania) </a:t>
            </a:r>
            <a:r>
              <a:rPr b="0" lang="pl-PL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ie jest późniejsza niż termin składania ofert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określony w ogłoszeniu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oraz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 jeżeli oferta wpłynie do oddziału wojewódzkiego NFZ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nie później niż na jeden dzień przed otwarciem ofert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"/>
          <p:cNvSpPr txBox="1"/>
          <p:nvPr/>
        </p:nvSpPr>
        <p:spPr>
          <a:xfrm>
            <a:off x="944280" y="1916280"/>
            <a:ext cx="846612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Oferty składa się w zamkniętych kopertach lub paczkach w miejscu i terminie określonych w ogłoszeniu o postępowaniu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Oznaczenie przesyłki wyraźnie wskazuje na zamieszczoną wewnątrz ofertę oraz wskazuje kod postępowania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Oferent obowiązany jest złożyć ofertę w formie pisemnej oraz elektronicznej.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ndara"/>
              </a:rPr>
              <a:t>OFERTA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Rectangle 1"/>
          <p:cNvSpPr/>
          <p:nvPr/>
        </p:nvSpPr>
        <p:spPr>
          <a:xfrm>
            <a:off x="-1800" y="1080"/>
            <a:ext cx="8848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e36c0a"/>
                </a:solidFill>
                <a:latin typeface="Arial"/>
                <a:ea typeface="Calibri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AutoShape 4"/>
          <p:cNvSpPr/>
          <p:nvPr/>
        </p:nvSpPr>
        <p:spPr>
          <a:xfrm>
            <a:off x="776160" y="552600"/>
            <a:ext cx="8856720" cy="2300040"/>
          </a:xfrm>
          <a:prstGeom prst="roundRect">
            <a:avLst>
              <a:gd name="adj" fmla="val 16667"/>
            </a:avLst>
          </a:prstGeom>
          <a:solidFill>
            <a:srgbClr val="2862aa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00"/>
                </a:solidFill>
                <a:uFillTx/>
                <a:latin typeface="Candara"/>
              </a:rPr>
              <a:t>Oferta w formie pisemnej</a:t>
            </a: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 obejmu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ndara"/>
              </a:rPr>
              <a:t>1. </a:t>
            </a:r>
            <a:r>
              <a:rPr b="1" lang="pl-PL" sz="1800" spc="-1" strike="noStrike" u="sng">
                <a:solidFill>
                  <a:srgbClr val="000000"/>
                </a:solidFill>
                <a:uFillTx/>
                <a:latin typeface="Candara"/>
              </a:rPr>
              <a:t>wydruk formularza ofertowego zgodny z jego postacią elektroniczną</a:t>
            </a:r>
            <a:r>
              <a:rPr b="1" lang="pl-PL" sz="1800" spc="-1" strike="noStrike">
                <a:solidFill>
                  <a:srgbClr val="000000"/>
                </a:solidFill>
                <a:latin typeface="Candara"/>
              </a:rPr>
              <a:t>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- opatrzony na każdej stronie tego wydruku kolejnym numerem oraz podpisami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lub parafami osób uprawnionych do reprezentowania oferenta, zgodnymi ze wzorami podpisów, zamieszczonymi w tabeli określonej w załączniku nr 6 do zarządzenia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ndara"/>
              </a:rPr>
              <a:t>2. </a:t>
            </a:r>
            <a:r>
              <a:rPr b="1" lang="pl-PL" sz="1800" spc="-1" strike="noStrike" u="sng">
                <a:solidFill>
                  <a:srgbClr val="000000"/>
                </a:solidFill>
                <a:uFillTx/>
                <a:latin typeface="Candara"/>
              </a:rPr>
              <a:t>dokumenty i oświadczenia wymienione w § 14  Zarządzenia Prezesa NFZ nr 18/2017/DSOZ z dnia 14 marca 2017 r</a:t>
            </a:r>
            <a:r>
              <a:rPr b="1" lang="pl-PL" sz="1800" spc="-1" strike="noStrike">
                <a:solidFill>
                  <a:srgbClr val="000000"/>
                </a:solidFill>
                <a:latin typeface="Candar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rostokąt 1"/>
          <p:cNvSpPr/>
          <p:nvPr/>
        </p:nvSpPr>
        <p:spPr>
          <a:xfrm>
            <a:off x="4011480" y="3789360"/>
            <a:ext cx="5478480" cy="17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Formularz ofertowy przygotowuje się w formie elektronicznej przy użyciu aplikacji ofertowej             w sposób określony w regulaminie technicznym przygotowania ofer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W formie wydruku stanowi on wersję pisemną formularza ofertowe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6" name="Picture 14" descr="C:\Program Files\Microsoft Office\MEDIA\CAGCAT10\j0195384.wmf"/>
          <p:cNvPicPr/>
          <p:nvPr/>
        </p:nvPicPr>
        <p:blipFill>
          <a:blip r:embed="rId1"/>
          <a:stretch/>
        </p:blipFill>
        <p:spPr>
          <a:xfrm>
            <a:off x="1281240" y="3141720"/>
            <a:ext cx="1795320" cy="18320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1T20:16:07Z</dcterms:created>
  <dc:creator>katarzyna.wiktorzak</dc:creator>
  <dc:description/>
  <dc:language>en-US</dc:language>
  <cp:lastModifiedBy>Wojciech Mika</cp:lastModifiedBy>
  <cp:lastPrinted>2019-03-12T08:41:44Z</cp:lastPrinted>
  <dcterms:modified xsi:type="dcterms:W3CDTF">2019-03-15T13:16:38Z</dcterms:modified>
  <cp:revision>1145</cp:revision>
  <dc:subject/>
  <dc:title>Slajd 1</dc:title>
</cp:coreProperties>
</file>