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28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7668D65-3259-494F-913F-D347826DAF0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BBDDB94-831D-40FD-81D4-642E550CF553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0C9B1F9-1481-465E-B48C-03492EBB1E0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85C3F-EF71-473E-8FC2-563C5B3BF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E0093-C377-4CCA-9509-1B5F711D730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D0607-5FAC-424F-9ABD-DFD00596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3CB7E-E73F-4892-A1D6-959E364D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E1AFD-1DC4-4A5F-A74B-08C07800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0BCDE-EDBA-4E8C-9D08-879A6382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35741-4689-4DBD-ADAA-89FFE349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D4BF8-14C8-4ECE-AA89-7DB8954D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70701-4DC7-48C6-9EA0-108E3930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D2620-710D-46F0-944D-CA57FD7C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858F4-6CB9-45BC-82AC-37D7D73A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32491-BA53-477A-ACCC-75A4EBB3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C4F23-BE32-48F7-84E2-C72D764A059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8F596-427E-4ED6-AA02-E0EBA1A6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B108F-9F0F-44F1-BA06-A5E4A102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FB8A5-FFB5-4EF9-AC6F-496D30BB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0101A-8EED-48B1-86F1-FA830A34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B44E2-6975-48BD-B482-257A7B21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733F2-E134-4625-A4C6-53F12D29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1B754-A4E0-40AA-9247-EAFA9F64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3D3C0-1D45-476F-91AC-8AE99F60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1ABAE-68BB-4F1F-8FB8-802A7A1B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A53FE-27BF-4AF0-8C0C-D1C9DF29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8915-BAE0-4962-8C00-49D58B7E001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804A6-20F2-4C52-99BE-B57A3396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B0956-D337-4DA3-9445-63C2C6E2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B2942-D5C6-4F39-81C2-4BF40EB3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F5431-1664-40E0-A826-0B8A44B4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E165E-E489-400D-A06E-0EC25008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A4C84-5921-4E93-B8C0-7CBF00DA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7AC8D-7382-4E0A-8563-944FDAA5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A0EBB-11B9-4460-9DE3-0BDDF281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9B354-1252-4B9F-9E15-0AD592FF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910CC-562B-41C4-99D4-6DD621E2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E0C0A-1F11-4598-BEF1-B08DF37C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C4A90-EE75-47B6-B29F-C4819240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27A1B-52FF-489F-A9EB-A3C1F63F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5522C-4C8B-41F1-8E8D-C85C7F7D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C7F0E-9B8F-4E4D-87C7-40CC9990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104A9-3645-48CF-9111-0507898D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F2237-EB74-4D6F-9D81-D1E7C485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617D3-FFD7-44D7-AC75-0C4AD746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513B6-468D-4576-9377-B813E185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C671F-75AD-4F93-8655-A1E6BA36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E7B0F-99E3-4D1C-9669-E6A58900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8BE4F-2742-4190-902C-B1C1ED06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45BA5-B443-4AD7-84FB-E13E83F3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575BA-C0F5-4158-8274-7BBFB744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15FDF-72C5-4E05-80EF-C6D7682E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C1F8D-DA0E-409A-A8BE-C3F836DC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FF2D4-7AD5-4A64-8DB7-FA5794DC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3AB64-C359-47F3-8462-D95AFE3A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FDF1B-223C-482E-B4E9-D40A0FBF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5B87F-25FD-40A1-909A-2E832419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B56C7-6F27-4F65-B042-B5165C3B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835BF-D09E-4A64-BCF7-E79870A6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C7A91-E178-44D5-A12B-B5F8ABF1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8F637-ABF7-4377-BF7B-ECFDA0DF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086F0-DF4F-4569-B1D6-F7B0B8F4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8C894-075C-4E5B-A4F9-B83C490B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A3380-D5B6-48F3-92E3-59134D3A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BC367-825F-4451-B6F3-957C4F88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FDAE2-BC4C-41F1-B4BC-20AA2085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37A09-61E9-454B-9CC8-1B13D492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ABC83-6C34-48BD-946D-A89B0DA5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79FD8-4A4A-443F-B878-FD53CCB9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D60AF-C126-4648-B756-CCFCD6EA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E5430-8E17-4190-9AB2-81B545C9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44B4D-C4A4-4107-A60A-B8A7967F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8D535-10D2-40F0-A9C6-AFDDB3B0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6A819-92CE-4B9B-839F-1B7E46BA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1FE28-26E4-4D1A-804D-262E803C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6941F-FB69-4674-807C-2DA5E97E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46734-F48E-4B61-9B30-1F3DAD77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9552B-BC0D-4E10-9AA9-283E9BED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C9A51-252E-42A4-8F7F-B5DDD42B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89F18-0FE0-418E-96A6-3CD3EA45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F1501-D5EE-4951-8D8C-93B79FD1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76195-BD19-4663-A364-29C3CECC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CDEA5-638A-4D68-B904-FB600421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4D8A4-92EE-4BE8-BF37-A6D4530D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98E44-DC54-4F56-A41A-F459864A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F22B3-5785-4E60-A851-1FE84076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E1627-AEE3-4D14-90B5-8AB68042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3D326-029D-4AE7-9B94-F5E0CB86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B097BB-3E00-4357-8342-915AE669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CA370-C2FD-4647-918F-AC993D57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5B9DD-FAC5-4D0F-B3DB-21E5CDA2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7C63B-21A9-4F20-BEE3-A7C9C86B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87686-289A-4C7F-927F-7C07F74A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A8200-39B9-4046-8CE2-73ADFB22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E1AC9-C34C-42BC-B585-C3765A61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BE4C9-5A1B-4B73-8991-337B0971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7C522-3361-4915-BF01-19FC9FF4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9F6FA-5755-4506-A834-F309AD46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36681-0FF9-49A9-8434-1046AF5F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AA7E7-0129-439B-AD5F-DA212530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E52EE-97B6-4E5B-881D-B93A61B5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90053-CCEE-4337-995F-5AC1EDE1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4C218-5116-455B-AEC9-D7D3F251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4B0117-0237-4D3C-AFF9-24C72F99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AC1B5-8F0E-48D2-A3DD-C08D2B87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ADF03-3C51-4917-A91A-A3E6E0ED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F50B8E-B4FF-4A2E-80E7-1EDAD16E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7B38-BAF4-486C-A3D1-74268AC95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866E9-D274-4149-B525-5FB7E87C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9CE5B-3882-45B4-85D7-D18AC445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7847C-D956-49CB-BE6D-2B240B44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A853E-CD6B-4C8F-9911-DBCED76B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D45F2-9BC2-4872-B375-B589221E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18DC26-CAF4-48D5-8CB4-CD513A40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8A660-797E-4E88-B6C9-DB7EEF9D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C8694-629C-4E66-AD4F-B4C83FBE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FEBE7-CFB2-4FC6-A728-7AA4EF3E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2530F-6597-4E62-A522-D3673910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637EF8-3927-4791-A849-D77D12EA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88099-07CC-453D-BB27-E4E752E9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4AC7C-7175-43A4-BA3F-35A24DE7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DB1EC8-D2DB-40F6-9651-8E22BE51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BDAB7-5AA9-43DA-A267-4FC9B7EA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C61746-8B2D-4064-9C55-CEF7AF71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EDC544-363A-478A-9CF1-CCE295BC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CC917-71A0-44C9-AF22-F669F153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A3242-C73B-403C-AFA1-923F4D4B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3860E-F6F4-4873-AC9F-C524CCDD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84828-9149-4694-A70C-9F909750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2E0A2-95D6-4F2D-8D76-70C5A352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F71D-022B-4F4B-A13D-0F3E6694E4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CAB92-4D3E-4E88-A2C2-DE5D4C0C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813BC-E06F-4ED8-B610-04515B30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463D8-C2FB-45B1-8F10-730E0729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F26C9-1D76-4362-8438-BDDC7312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BADD0-D3C7-43F1-8B2B-53D7E77D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BE631-3251-48C5-B711-27932D25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6C7D3-5F54-4E61-95D4-F84666FB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A00E-D345-4835-88AB-9FE5CF6CF1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4866C-F5A7-4F18-ACD3-528AD832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1B418-1391-4B3E-AB34-55F8D86632C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6579C-5E5E-4BBA-93BC-06F6FF04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8DFE9-9116-4781-8177-C8658E9C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471E6-048A-4BE5-941B-AB9A1909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A3154-0DC0-4BCC-ACAD-8C65BCF6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0A333-F0AD-464F-9063-8A20BA3B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005E5-17D9-4972-89FB-FF34B271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530B0-9706-4307-8EBD-C61F45DC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EE488-1C86-404F-ABA6-FFB5BF9F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F0429-60D3-4EF5-8424-56462086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C4A7D-D417-4181-866E-8AC20AF1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1F79E-AA78-4D4E-86C0-6F30F3719CE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581EA-2A2B-4C4C-AE22-FE4690C2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89EE2A-73C6-4DC7-9D37-F9D8751C8B1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B51F0A-FB22-4058-9977-908C8A16B18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DC254A-5B94-41AA-9151-260A2B9FD45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B8BEC9-EB01-496D-9526-9194B424167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1B52EA-EBF8-4CB4-A21D-334BBA58572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520B7C-AD76-4EFD-92A3-8F184711C9B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153B26-1F9B-46B5-9F88-8A501AFF1BC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4EBA2-4E08-4783-84F7-A52779746F4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6B46A9-58E0-459C-B145-6ED6CE34C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4DF1-6312-4502-8978-C2E05AFACF0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67355-47DD-426E-B203-FF5008A3367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232E13-E869-4B0A-88E4-5313225C7E7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FF5F99-1D59-4943-AADA-3DF92F50D1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9073F-EB0C-43DF-A4F1-3745F6B4145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B4A00-C6C4-4C0A-AB5C-C0FCC05C04F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9F41D-CB0E-4D10-86A4-25B7BA5ADE1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A59BA-A9E5-4867-96A5-4E1F9ECF338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CF6BD-C37C-40FD-A82F-76F03E06843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D1C4-9F37-4355-887F-D6D4DBFE22D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6B045-AF59-43E7-82C7-55C8C4B69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BFB04-A6EA-4111-8DF5-E79D0926E60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E9BB1-4CA6-46C0-8197-927F8FD3F3B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444EB-ED66-496A-87BA-7473F694FAF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E3DA3-B8A3-4B8E-808D-381B201A312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4DCAA-F763-44FA-AD32-B162C839F52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C10BF-1547-4EF6-AB20-0C3ACC97871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2D6B6-7ADA-49FE-B297-C6371502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3C204-FBA3-48B4-AFFF-2F835AB2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C4EFF-521C-42B4-8A77-F5942B8E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9FE9C-A092-4EE6-8431-B207E2B2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572E4-2F0D-4C1B-B675-A14C2E25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7D4A5-6157-4045-B312-EB1B9E0BD77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B54B5-2F0C-4EED-A2C6-C648F7EB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B91DB-1C34-456C-8909-48885F02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ECDF3-0DFB-4D1F-8ECD-00E3D8FD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5FD7B-D77E-4754-8831-18EC1817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1E653-EAE0-4338-A55C-EF12CB32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8BDF9-0BB6-4357-AB0C-D0C00004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2DF54-83BC-41C9-BE39-F983A836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66288-60C2-4740-8009-5C0FC3C4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2DB03-1C54-4474-B4F1-099AB7A8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41C1F-2E4A-4A91-AE03-FE40919E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613C-8E0E-4B09-9403-E5E8F04F58A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6B37-B334-4136-BF5F-B81E4C707BC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855E-8583-40BE-A09A-63AE69DD409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FD83-8726-4C04-A86D-96CC7E8DFD01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8852-F1FA-4393-86E2-296AFF914BB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2B3A-1066-4603-9B6D-8A836B73DED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223D-5087-4F72-A2B5-DCE5C033073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C94E-B566-4C25-BB86-73896A6F9895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DC06-AC7F-47C5-86B0-90E5A2F6FDB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DF98-A423-485A-9642-1879638FB9A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07EF-9FB8-44D6-B12E-96A3ECCF3C5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037E-F934-452D-A9BD-18C32975DDE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9E13-CC23-4C97-9D2D-89DC2906F0F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7AA0-0A21-4CA2-8B85-FBBA0906FB49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BC62-6BB5-4D5E-AEA5-F16392D4906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2DD9-693E-4FE6-9492-D8031E9A608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C312-ADFC-46E2-A399-93A8C90D72E3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0FB2-C748-4986-A759-6A3A2860622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DD77-32B2-42A5-BB2F-4D87901C860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53C8-04D8-40EE-BC38-104D60CAA775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1FB9-FC7C-4E54-880B-72EC33549A2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A52E-3F8D-4F70-B61F-208CB62DB71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16B6-851B-4322-9C03-C64E5932C1A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9280-3564-4860-BBA3-EA0CF635FB71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7507-AB84-40FD-8431-0B76667B5F9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ip.legalis.pl/document-view.seam?documentId=mfrxilrtge2tqmrtgu2tsltqmfyc4mzrga2dqnbwgm" TargetMode="External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936000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Kontraktowanie</a:t>
            </a: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0000"/>
                </a:solidFill>
                <a:latin typeface="Candara"/>
              </a:rPr>
              <a:t>KRYTERIA OCENY OFER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Użyte w rozporządzeniu określenia oznacza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0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lokalizacj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- budynek lub zespół budynków oznaczonych tym samym adresem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albo oznaczonych innymi adresami, ale położonych obok siebie i tworzących funkcjonalną całość, w których jest zlokalizowane miejsce udzielania świadczeń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1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miejsce udzielania świadczeń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- pomieszczenie lub zespół pomieszczeń w tej samej lokalizacji, powiązanych funkcjonalnie i organizacyjnie w celu wykonywania świadczeń gwarantowany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ferent, który deklaruje spełnianie warunku podlegającego ocenie, jest obowiązany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go spełniać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w okresie związania ofertą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ra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rzez cały okres realizacji umowy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chyba że przepisy rozporządzenia stanowią inaczej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Oferent, który zadeklarował spełnianie określonego warunku podlegającego ocenie, jest obowiązany go spełniać </a:t>
            </a: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datkowo ponad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warunki realizacji świadczeń określone w rozporządzeniach wydanych na podstawie art. 31d ustawy o świadczeniach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272880" y="620280"/>
            <a:ext cx="936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6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) certyfikat ma zastosowanie w przedmiocie postępowania, na który złożono ofertę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2) certyfikat obejmuje miejsce udzielania świadczeń wskazane w ofercie, a w przypadku dysponenta zespołów ratownictwa medycznego - miejsce stacjonowania zespołów ratownictwa medycznego wskazane w oferci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3)  certyfikat jest wydany przez jednostkę certyfikującą systemy zarządzania posiadającą akredytację udzieloną przez Polskie Centrum Akredytacji lub przez jednostkę akredytującą będącą sygnatariuszem porozumienia o wzajemnym uznawaniu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„EA Multilateral Agreement” i jest opatrzony symbolem akredytacji jednostki akredytującej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4) certyfikat jest wydany w zakresie systemów zarządzania: ISO 9001, ISO/IEC 27001, ISO 17025 lub 15189 - zgodnie z ich przyporządkowaniem do poszczególnych zakresów świadczeń wynikającym z załączników do rozporządzenia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5) akredytacja, o której mowa w pkt 3, obejmuje certyfikację systemów zarządzania wymienionych w pkt 4 oraz jest wydana w zakresie usług medycznych (branża „Zdrowie i opieka społeczna” zgodnie z kodem 38 EA, w przypadku: ISO 9001, ISO 14001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PN-N 18001 lub OHSAS 18001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415440" y="620640"/>
            <a:ext cx="900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7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wpisu do rejestru jest spełnione, jeżeli wpis jest ujawniony w księdze rejestrowej oferenta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8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"jakość - wyniki kontroli" jest spełnione, jeżeli nieprawidłowość dotyczy umowy realizowanej w dniu złożenia oferty w ramach danego zakresu świadczeń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i w ramach obszaru, którego dotyczy postępowanie, oraz została stwierdzona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ostępowaniu kontrolnym zakończonym wystąpieniem pokontrolnym lub w trakcie monitorowania, o którym mowa w art. 107 ust. 5 pkt 12 ustawy o świadczeniach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944280" y="1700280"/>
            <a:ext cx="80262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Jakość wyniki kontroli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Przedmiotowe kryterium obejmuje wszystkie kontrol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a nie jedynie ostatnią), dotyczące umowy realizowanej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dniu złożenia oferty w ramach danego zakresu świadczeń i w ramach obszaru, którego dotyczy postępow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488880" y="620640"/>
            <a:ext cx="9072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9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rzypadku uzyskania jednakowej łącznej oceny oferty przez co najmniej dwóch oferentów kryterium różnicującym oferty stanowi ocena uzyskana w kolejności według następujących kryteriów: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iągł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oraz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en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pielęgnacyjne i opiekuńcze w ramach opieki długotermin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pielęgniarskiej opiece długoterminowej domow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2" descr=""/>
          <p:cNvPicPr/>
          <p:nvPr/>
        </p:nvPicPr>
        <p:blipFill>
          <a:blip r:embed="rId1"/>
          <a:stretch/>
        </p:blipFill>
        <p:spPr>
          <a:xfrm>
            <a:off x="933480" y="1341360"/>
            <a:ext cx="8110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6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tylko pielęgniarki z ukończoną specjalizacją lub kursem kwalifikacyjnym we wskazanej dziedzinie pielęgniarstwa, 40% liczone od sumy wykazanego czasu pracy pielęgniarek w oferci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2" descr=""/>
          <p:cNvPicPr/>
          <p:nvPr/>
        </p:nvPicPr>
        <p:blipFill>
          <a:blip r:embed="rId1"/>
          <a:stretch/>
        </p:blipFill>
        <p:spPr>
          <a:xfrm>
            <a:off x="631800" y="1744560"/>
            <a:ext cx="8713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560160" y="1484280"/>
            <a:ext cx="9001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Ministra Zdrowia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sprawie szczegółowych kryteriów wyboru ofert w postępowaniu w sprawie zawarcia umów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 udzielanie świadczeń opieki zdrowotn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5 sierpnia 2016 r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(Dz.U. z 2016 r. poz. 1372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7BA4-E786-42FD-8027-9B28E56BDBC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8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2-letnim doświadczeniem w udzielaniu świadczeń w warunkach domowych…” – bierze się pod uwagę udokumentowany staż pracy w pielęgniarskiej opiece długoterminowej domowej, podstawowej opiece zdrowotnej (pielęgniarki poz), pracy w domu pomocy społecz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9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3-letnim doświadczeniem w pielęgnacji chorych w warunkach oddziału szpitalnego …” – bierze się pod uwagę udokumentowany staż pracy w warunkach oddziału szpitalnego (bez izby przyjęć, SOR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Co najmniej 50% pielęgniarek udziela świadczeń w wymiarze równoważnika 1 etatu” – dotyczy liczby pielęgniarek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 nie czasu pracy pielęgniarek) i tylko umów o pracę (wyjątek samozatrudnienie tj. indywidualne, grupowe praktyki pielęgniarskie) należy pamiętać o konieczności spełniania tego warunku przez cały okres obowiązywania umow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631800" y="2792520"/>
            <a:ext cx="87138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2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wszystkich świadczeniobiorców, którzy otrzymali ocenę według skali Barthel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5 ze skierowania lub uzyskali taką oceną przynajmniej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 w trakcie pielęgniarskiej opieki długoterminowej domowej i byli objęci taką opieką przez co najmniej 90 dni w okresie ostatnich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miesięcy poprzedzających o 2 miesiące miesiąc, w którym ogłoszono postępowanie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488880" y="2433600"/>
            <a:ext cx="8928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4" name=""/>
          <p:cNvGraphicFramePr/>
          <p:nvPr/>
        </p:nvGraphicFramePr>
        <p:xfrm>
          <a:off x="488880" y="1484280"/>
          <a:ext cx="8785440" cy="40338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43988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obliczeń procentowego udziału świadczeniobiorców z oceną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punktów w skali Barthel, należy brać pod uwagę wszystkie osoby objęte pielęgniarską opieką długoterminową domową, które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załączonej do skierowania karcie oceny lub w trakcie opieki uzyskały przynajmniej raz ocenę 0 punktów w skali Barthel, w stosunk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szystkich osób objętych tą formą opieki przez danego świadczeniodawcę. Sformułowanie "objętych opieką w ramach pielęgniarskiej opieki długoterminowej domowej" oznacza zarówno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 osoby , które zostały przyjęte do takiej opieki w badanym okresie czasu, jak i te osoby, które były przyjęte wcześniej, a kontynuowały opiek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2" descr=""/>
          <p:cNvPicPr/>
          <p:nvPr/>
        </p:nvPicPr>
        <p:blipFill>
          <a:blip r:embed="rId1"/>
          <a:stretch/>
        </p:blipFill>
        <p:spPr>
          <a:xfrm>
            <a:off x="488880" y="2701800"/>
            <a:ext cx="8928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704880" y="1700280"/>
          <a:ext cx="8496360" cy="338436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33843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a wyliczania jest analogiczna jak w ppkt.1.2 Podstawę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yliczenia stanowią wszystkie osoby objęte pielęgniarską opieką długoterminową, które w trakcie opieki przynajmniej raz otrzymały ocenę 5-15 punktów w skali Barthel, w stosunku do wszystkich osób objętych tą formą opieki przez danego świadczeniodawc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2" descr=""/>
          <p:cNvPicPr/>
          <p:nvPr/>
        </p:nvPicPr>
        <p:blipFill>
          <a:blip r:embed="rId1"/>
          <a:stretch/>
        </p:blipFill>
        <p:spPr>
          <a:xfrm>
            <a:off x="488880" y="2576520"/>
            <a:ext cx="8928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88520" y="1196640"/>
            <a:ext cx="900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określa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szczegółowe kryteria wyboru ofert 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w podziale na poszczególne zakresy lub rodzaje świadczeń opieki zdrowotnej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na podstawie </a:t>
            </a:r>
            <a:r>
              <a:rPr b="0" lang="pl-PL" sz="32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art. 148 ust. 3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 ustawy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27 sierpnia 2004 r. o świadczeniach opieki zdrowotnej finansowanych ze środków publicznych ( t.j. Dz.U. z 2018 r. poz. 1510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7844-33A7-43D5-9BBC-BBA3E684C59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8" name=""/>
          <p:cNvGraphicFramePr/>
          <p:nvPr/>
        </p:nvGraphicFramePr>
        <p:xfrm>
          <a:off x="704880" y="1484280"/>
          <a:ext cx="8569440" cy="39607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396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leży przyjąć, że kryterium jest spełnione, jeżeli dotyczy wszystkich świadczeniobiorców objętych świadczeniami pielęgniarskiej opieki długoterminowej domowej w okresach pomiędzy wszystkimi hospitalizacjami oraz po ich zakończeniu, z wyłączeniem zgon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b objęcia świadczeniobiorcy inną formą opieki w ramach świadczeń opieki zdrowotnej finansowanych ze środków publicznych. Spełnienie ww. warunku kryterialnych oferent może potwierdzić na podstawie zgromadzonej dokumentacji medycznej. np. w sytuacji gdy pacjent zrezygnuje ze świadczeń pielęgniarskiej opieki długoterminow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"/>
          <p:cNvPicPr/>
          <p:nvPr/>
        </p:nvPicPr>
        <p:blipFill>
          <a:blip r:embed="rId1"/>
          <a:stretch/>
        </p:blipFill>
        <p:spPr>
          <a:xfrm>
            <a:off x="488880" y="3292560"/>
            <a:ext cx="892800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704880" y="1197000"/>
            <a:ext cx="8209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488880" y="2643120"/>
            <a:ext cx="89280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488880" y="2492280"/>
            <a:ext cx="89280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2" descr=""/>
          <p:cNvPicPr/>
          <p:nvPr/>
        </p:nvPicPr>
        <p:blipFill>
          <a:blip r:embed="rId1"/>
          <a:stretch/>
        </p:blipFill>
        <p:spPr>
          <a:xfrm>
            <a:off x="488880" y="2421000"/>
            <a:ext cx="89280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776160" y="2205000"/>
          <a:ext cx="8425080" cy="3095640"/>
        </p:xfrm>
        <a:graphic>
          <a:graphicData uri="http://schemas.openxmlformats.org/drawingml/2006/table">
            <a:tbl>
              <a:tblPr/>
              <a:tblGrid>
                <a:gridCol w="8425080"/>
              </a:tblGrid>
              <a:tr h="3095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jest spełniony, gdy oferent wg stanu na dzień złożenia oferty udziela świadczeń w ramach zawartej umowy w danym zakresie świadczeń oraz w danym obszarze, na który zostało ogłoszone postępowanie. </a:t>
                      </a:r>
                      <a:r>
                        <a:rPr b="0" lang="pl-PL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tyczy także sytuacji dokonania sukcesji generalnej czy cesji umowy, cesjonariusz (sukcesor) wchodzi w ogół praw i obowiązków wynikających z umowy o udzielanie świadczeń opieki zdrowot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415800" y="2492280"/>
            <a:ext cx="89283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6" name=""/>
          <p:cNvGraphicFramePr/>
          <p:nvPr/>
        </p:nvGraphicFramePr>
        <p:xfrm>
          <a:off x="776160" y="1773360"/>
          <a:ext cx="8498160" cy="360036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189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5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09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10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" descr=""/>
          <p:cNvPicPr/>
          <p:nvPr/>
        </p:nvPicPr>
        <p:blipFill>
          <a:blip r:embed="rId1"/>
          <a:stretch/>
        </p:blipFill>
        <p:spPr>
          <a:xfrm>
            <a:off x="560520" y="2565360"/>
            <a:ext cx="8713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A2F-2658-4B78-9C80-678601CB162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5" descr=""/>
          <p:cNvPicPr/>
          <p:nvPr/>
        </p:nvPicPr>
        <p:blipFill>
          <a:blip r:embed="rId1"/>
          <a:stretch/>
        </p:blipFill>
        <p:spPr>
          <a:xfrm>
            <a:off x="920880" y="1700280"/>
            <a:ext cx="8208720" cy="3989160"/>
          </a:xfrm>
          <a:prstGeom prst="rect">
            <a:avLst/>
          </a:prstGeom>
          <a:ln w="0">
            <a:noFill/>
          </a:ln>
        </p:spPr>
      </p:pic>
      <p:sp>
        <p:nvSpPr>
          <p:cNvPr id="845" name="Strzałka w lewo 1"/>
          <p:cNvSpPr/>
          <p:nvPr/>
        </p:nvSpPr>
        <p:spPr>
          <a:xfrm>
            <a:off x="8481960" y="2433600"/>
            <a:ext cx="1008000" cy="287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6" descr=""/>
          <p:cNvPicPr/>
          <p:nvPr/>
        </p:nvPicPr>
        <p:blipFill>
          <a:blip r:embed="rId2"/>
          <a:stretch/>
        </p:blipFill>
        <p:spPr>
          <a:xfrm>
            <a:off x="8459640" y="3573360"/>
            <a:ext cx="1030320" cy="304920"/>
          </a:xfrm>
          <a:prstGeom prst="rect">
            <a:avLst/>
          </a:prstGeom>
          <a:ln w="0">
            <a:noFill/>
          </a:ln>
        </p:spPr>
      </p:pic>
      <p:sp>
        <p:nvSpPr>
          <p:cNvPr id="847" name="Strzałka w lewo 7"/>
          <p:cNvSpPr/>
          <p:nvPr/>
        </p:nvSpPr>
        <p:spPr>
          <a:xfrm>
            <a:off x="8459640" y="4941720"/>
            <a:ext cx="1008360" cy="287640"/>
          </a:xfrm>
          <a:prstGeom prst="leftArrow">
            <a:avLst>
              <a:gd name="adj1" fmla="val 50000"/>
              <a:gd name="adj2" fmla="val 4995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hospicjum domowy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944640" y="1268280"/>
            <a:ext cx="8026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560520" y="1557360"/>
            <a:ext cx="84103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560520" y="2205000"/>
            <a:ext cx="84103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2" descr=""/>
          <p:cNvPicPr/>
          <p:nvPr/>
        </p:nvPicPr>
        <p:blipFill>
          <a:blip r:embed="rId1"/>
          <a:stretch/>
        </p:blipFill>
        <p:spPr>
          <a:xfrm>
            <a:off x="560520" y="1644480"/>
            <a:ext cx="84103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2" descr=""/>
          <p:cNvPicPr/>
          <p:nvPr/>
        </p:nvPicPr>
        <p:blipFill>
          <a:blip r:embed="rId1"/>
          <a:stretch/>
        </p:blipFill>
        <p:spPr>
          <a:xfrm>
            <a:off x="560520" y="2276640"/>
            <a:ext cx="8569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856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4103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944280" y="1125360"/>
            <a:ext cx="8026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Problematycz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spełnienia warunku w którym występuje pojęcie „świadczeniobiorcy” przez oferentów, którzy nie byli dotychczas stroną umowy zawartej z NFZ (opinia MZ wskazująca na równe traktowanie wszystkich świadczeniodawców ubiegających się o zawarcie umowy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warunków dodatkowo ocenianych powinno być prowadzone w oparciu o dostępne dla NFZ dane,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przypadku danych niedostępnych dla NFZ, oferent który zadeklarował spełnianie określonego warunku, jest zobowiązany go udokumentować. Potwierdzenie jest możliwe w szczególności na podstawie zgromadzonej dokumentacji medycznej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2" descr=""/>
          <p:cNvPicPr/>
          <p:nvPr/>
        </p:nvPicPr>
        <p:blipFill>
          <a:blip r:embed="rId1"/>
          <a:stretch/>
        </p:blipFill>
        <p:spPr>
          <a:xfrm>
            <a:off x="1446120" y="3048120"/>
            <a:ext cx="7016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415440" y="1700280"/>
            <a:ext cx="9145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yrażenie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2 miesięcy poprzedzających o 2 miesiące miesiąc,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którym ogłoszono postępowanie” np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głoszenie postępowania konkursowego w dniu 7 marca 2019 r. wówczas należy brać pod uwagę okr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d 1 stycznia 2018 r. do 31 grudnia 2018 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45216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Świadczenia pielęgnacyjne i opiekuńcze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ramach opieki długoterminow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mieniające rozporządzeni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szczegółowych kryteriów wyboru ofert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 dnia 8 lutego 2018 r. (Dz.U. z 2018 r. poz. 385) – </a:t>
            </a:r>
            <a:r>
              <a:rPr b="1" lang="pl-PL" sz="2400" spc="-1" strike="noStrike">
                <a:solidFill>
                  <a:srgbClr val="ff0000"/>
                </a:solidFill>
                <a:latin typeface="Candara"/>
              </a:rPr>
              <a:t>załącznik nr 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5110-AA35-450C-98AD-FEABC8F393C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41544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Rozporządzenie Ministra Zdrowia z dnia 5 sierpnia 2016 r. w sprawie szczegółowych kryteriów wyboru ofert w postępowaniu w sprawie zawarcia umów o udzielanie świadczeń opieki zdrowotnej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(Dz.U. z 2016, poz. 1372 z późniejszymi zmianami - w szczególności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Dz. U. z 2017 r. poz. 1279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Załącznik nr 11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–  Wykaz szczegółowych kryteriów wyboru ofert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wraz z wyznaczającymi je warunkami oraz przypisaną im wartością w rodzaju </a:t>
            </a:r>
            <a:r>
              <a:rPr b="1" lang="pl-PL" sz="2000" spc="-1" strike="noStrike">
                <a:solidFill>
                  <a:srgbClr val="ff0000"/>
                </a:solidFill>
                <a:latin typeface="Candara"/>
              </a:rPr>
              <a:t>opieka paliatywna i hospicyjna -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ze zmianami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12AF-ADB6-4BD8-9AD9-9620A8DB82C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848880" y="1773000"/>
            <a:ext cx="8280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1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dla poszczególnych zakresów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2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wspólne dla całego rodzaju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Kryteria wyboru ofer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95000" y="2637000"/>
            <a:ext cx="89154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Candara"/>
              </a:rPr>
              <a:t>Oceny ofert, według określonych kryteriów, dokonuje się odrębnie dla każdego oferowanego zakresu świadczeń opieki zdrowotnej w ramach danego postępowania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DBD0-423C-4B69-A9BC-4F18F68973C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14Z</dcterms:modified>
  <cp:revision>1282</cp:revision>
  <dc:subject/>
  <dc:title>Slajd 1</dc:title>
</cp:coreProperties>
</file>