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91E041D-E79A-453F-91F8-C9E5CDD5BA4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3A7576F-CC99-4CC0-9B18-A2DE0BACF7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7528958-8F7A-49E2-8AEA-37580F55E9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2018FDB-4E7F-436E-A385-E4B6A4AD42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8E77007-D903-4D60-BC21-69B68E48A7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A395-9E53-4A8D-A754-9CEC6EA25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CA73-36BC-420A-B098-53DADB89C5B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ED0E-2D9F-418F-9A4D-FE939195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4164-E01B-4984-86E0-865DBD4D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0ECF-906D-465E-827A-F7200B05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F86D-13F0-4364-89C4-8FAAAA1F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7592-99F1-41D5-9539-986E71D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0FBE-C61C-46A7-88BD-8E31F1E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D95E3-52AA-4A84-BFB5-AFB2812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8A85-C3C3-43BE-B674-ABFFC80C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42DD-D070-42A0-8D13-A9E6B13A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CAB0-2397-4B5F-BD17-BA2F14DC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EC9A-D799-4D19-AE78-B5DBC463D0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CC41-B591-4710-B116-4896F74B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DF541-8D15-490C-AC6D-F7AB799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585C-6553-4C59-9027-85A8C981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E70D1-ADBA-4C50-AF80-5CE3E12D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FF844-98C2-4129-BBA1-DBB4212B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C94C-FA43-4117-86FE-CF445FB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79976-38F1-45CB-8105-D73C2C76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CA76A-BFAA-4762-9E2A-752F816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DDA6-2916-4DDF-ADC9-6DDD055F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2BD67-20AA-4669-ABC1-26029995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CD43-2A1B-4A20-A7AD-91228400740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CF6C-BFAD-47FF-8BE0-216A5460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32E2-E459-4431-B589-AE07508F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CDFBC-4BC1-4227-8343-A2872608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DC90-51B4-4A3F-BA06-3237273B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1108-E316-4953-8E83-9130552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7DCF-B78B-4A33-A957-EFD215E2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A26E-8FDA-42E9-ACA9-05EA57B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B119-5FAE-4CF9-8491-85AF82F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2B71-E0ED-466E-AB67-1932308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30472-B9E3-4D1B-93FC-F3793395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F9DB-65F0-4D8D-B715-B39B28C8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8699-867E-497A-8578-DEEF3812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F74E6-1E47-4298-9C43-5E36B63C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07037-AB37-4EC3-B592-04D97966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B7320-7B24-4098-B575-B5CAFE17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C7CD9-D984-407A-B5AB-67E535D5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C6667-6B49-473C-872D-7B3DCF0B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B9788-3685-4BAC-BBB1-8011AED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8209-1BB9-4427-87E2-EA804791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A2F9A-3023-4D95-B67C-B0C21ED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C3665-8F83-408C-A234-B2ABE73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6E38F-6FC1-434E-A29B-57A721F2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A3C40-88CD-4DCC-92BB-6D46A3F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7B34D-202C-4379-A2E2-42F349F4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F7662-31E0-4207-A431-7D596FEB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27F25-ED2E-4E5A-B082-25A7B1CB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AE3AC-9CBF-4EA8-944B-C21ADF28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B210-990F-4E47-A066-2432207E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AFCFD-132D-4C5A-96E2-314EE7B9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2725A-7BC0-436A-BA5C-75EE1E66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7A759-EBA6-4A1F-82D6-59BACC19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81E7D-DB56-4402-9A26-AB6E8F1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9E83C-5E0C-48FE-913C-FF26306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51B2A-36F2-4884-9B36-748E5AD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BA8B1-B047-4483-994A-692139F9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792E0-7F48-4DE8-AF9B-1A36CE22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8E343-B15A-459E-A1D0-622B4654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CCA0-7E27-4C10-ABA0-0414FACB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CB9CB-4704-47FA-B6E6-0B5957E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B6B8D-D745-47C1-8AB5-8B2C836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D309B-0FA2-41C9-9D34-A179666D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802E3-84CA-40C0-8F74-A194D94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6E7E3-5587-464E-A288-D64DF2B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5D70A-E736-4C9E-9F53-5F49AC3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A798-CE40-4867-966D-70422AF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28342-35E4-4B89-80CD-1E5D6FC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00CD5-191E-4926-A59D-119DC7D3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BCDAD-935B-4A80-9868-7C0915FF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BEA4-C7D4-4362-80F6-F1F7D387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E63B9-DF46-4C2E-9F36-0D4F1FD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95466-9345-4922-8E47-871579E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CA9F0-ED60-4562-AD88-FADD0B1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54518-B3CC-4074-AA67-F45CCDC1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CA95B-F2E7-41F4-A451-A39848B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EFA8E-BB3E-4391-9CBA-16AA730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22825-E897-432F-AF05-590B91F7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88449-56D8-45DD-815C-318B2A4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61763-0168-40C5-BD6F-EFEA695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EDFB4-2906-4D19-A595-4DA4A0F8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77260-4338-4E47-B32B-9D6BBB1C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B48AB-E139-42B8-B3F9-439B965D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0677D-AF10-4F91-BEF7-1BC66B08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3567E-F738-4602-B380-0B10C11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47F18-9E20-4F9E-AB65-FAE2AF3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9EEAB-0F46-4FAA-AF6D-DD845100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4D987-FC3C-49CC-B0AD-83C13FA5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2DFB9-BCEA-4139-8D45-4EE9AFF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D8E39-2BBD-49F0-8D44-DD500CF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3F701-0644-46F8-B9A5-A1A0DB4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6B982-8283-488E-A7CD-54EEA34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227D8-8595-4686-A0AB-038AA804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A9DE1-E2E8-4901-9F52-844017C3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32906-22A8-4A65-8714-703AD07F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B5591-46CA-471F-A960-CEFEC269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40AFB-27E6-4924-8F4D-A8BE175A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F7E92-474F-42DB-8C46-8496FE33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9CD97-C69D-45F7-9C68-B568E647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FE6BB-CED0-4815-A51A-E789BCE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242DD-5F6C-4430-99B7-885DD48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6F27D-14C8-4258-ACC9-D630570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F5D2-BB98-41BC-A3A8-4062BC543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6DBF7-F54C-49E5-BE97-F85E401B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779F8-BDE9-42F3-9525-7AED425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8B0CE-15BD-4EE8-BFED-EFA042AE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EDE22-F2B8-4F90-95DB-D11C3FD9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1FB1C-4A2D-42B0-B7E0-A64D66FF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7562E-3AAE-4B3D-A56F-08350475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E4844-843D-4BF8-BC58-74D6681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E785F-DA73-4C1D-AB06-1CD7E898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3F5EE-A1C6-4569-B8CB-0E5E1D6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6DAFC-EEE1-4669-A171-7103B14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4E884-ACD4-4835-ACB4-49BB5DF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6A6E5-526E-4CB4-A6D6-4408538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FC4B2-91D6-4F8A-91BE-B0A717E3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CDAD5-340D-40B9-9687-1282A05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3978E-E301-430F-9893-77F51BF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2F89D-7A26-4789-8075-B70962AE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6252E-7135-42B8-98EF-410D707C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D96DB-98F7-4E61-B7BF-743762B9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0243C-C658-4BEB-9514-FB9B979F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0E1C-8B16-4349-9996-D9C851C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5C213-B6D5-4052-8B33-F63E708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54ECA-EDE6-4FCA-B40B-B183015C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9545-74DA-4DAF-9763-B94D0AA24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680F0-108A-4278-9371-B62C1E8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F385A-9436-42C4-8447-C19766DD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F62ED-4742-4E0D-850C-D9AEE96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D054E-9FDF-4C05-9D72-27D70B2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D25C-A790-43F8-BDEA-C845846C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76E17-BEDB-4A8B-AECE-037C7BAE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0793-C0FE-47DC-8C05-EB9DDE6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4892-B1BF-431F-8B65-706E5F497D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DEE03-81A1-47FA-A98B-1B380865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A49D-2CC9-4304-89EC-6821836181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8AD5B-8055-4951-AC5A-280AF89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E0873-90E5-4100-BAC5-809AB48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971EB-6B22-475B-B22C-72D7555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87FA3-C288-4929-A331-9C927B2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CF242-0471-4423-B53C-E143F716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92EE9-FDFE-445E-A1E7-1A0E0D6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17ED8-941F-4EFA-A43C-F5B0578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79FF6-CC38-4030-BE8A-40D09C3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C3E5B-8D21-477B-AA7A-2B8EFE16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8CE29-BE6F-40FF-910C-A3C5B9F7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9C8C-BE33-4067-B5C4-C06D19D229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64D90-1D75-4987-88FF-4EB7B915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B469F-2010-4A3F-9838-EC40BABF0C9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AE9C6-F91E-4DE6-BA44-D4E9E55E4D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5C2A3-F954-4FF9-B110-EC560DF6D5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3D552-0DC2-4D14-B382-39F51515E1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4F994-F1B3-4C07-8323-DB475848F6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8C100-5BA8-4481-889D-20D13159A6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5D2A9-142F-4738-89B0-9A0B92F71A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685BA-D297-4B46-8030-D34D9D8523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F4080-DFC6-4D1D-A13D-20DECB95A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7B9D-E456-4113-8602-321550A73C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0FC10-8D59-4DBB-8859-0D21B46220E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E70BE-A0CE-47E7-9ED2-42F1990547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967F8-2C85-4C17-8EEB-39661C5535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69E0-AD93-4181-A3ED-7BFBB864DF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0E6A-2755-431B-ACB3-E0C7E2F70D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82A0-D664-44A7-8926-41F6072CCC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5DA5-2D7D-4F10-80E4-8855F22C35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8F6C-0D68-4715-B32B-58FB096D9E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99E3-DDAB-4CB6-A5A4-68EBB73CFF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8EA4-2F44-4E84-9577-8CD22CC6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E832-92EA-4F6C-B296-0AD8CBDBA04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FAD3-E719-4ADB-BFC3-78C4FC694F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E96D-D027-4D5D-91BD-D5274BC369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A73F-7AA5-4210-838F-4FA7BD72F2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1987-4AEC-41AD-9D19-20293868B6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D8F9-CA2F-4BA1-AC44-D94C35DD5E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B996-89E1-4FA2-AB56-073D3AE3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1CD2-571A-4C2E-BC56-6A323243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8DD2D-07AF-4324-AE51-439B4BC1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C9035-0ECB-4F73-9653-2BF617F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A14A-CB9B-4078-A633-FB9F45CE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1072-31BF-4D0C-9095-5EDEA6CFA7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14C0-D0E7-4A8C-8264-3FCE2FEA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4122-8156-4D9B-9E3F-AE1DA31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74E5-DC97-49B5-86C7-9FFB502C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F9DD-317C-4210-BE01-F421466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4D19-FA0B-426C-95C1-98148D61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AF342-9A01-45C1-9425-B3AA55B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43378-C227-490B-A92D-3C5419B1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48F0-88EA-4778-AEF9-95939294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5A84-7ACD-4C50-A742-27184E9B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ACBBC-D6B8-4D1D-ACA6-5E9D0F3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6F82-6213-4E88-8665-FE7329E468B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754-149B-4AD7-9E87-E0D1FA96A3D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2B8-0241-4FFE-A156-38EB576249A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FC2-6EB0-44E7-9CED-393F135F8F1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AE1C-6EB9-48BD-9193-4BE9566CF60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898-CF25-4194-8482-2C922AD4BEC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CD0-44E8-4BA7-962A-E28CD7D6E6E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3A50-08B7-478B-8915-3C11B2292E1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26AC-7FFC-497F-9BE6-349F44F32F2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B6D-8B68-4339-9287-D819B10B170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9AF-CCC3-46EE-BDC8-E76F162F0ED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A0E-33B6-4893-9A94-3CED2B971DB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C77D-C170-4B00-940F-8F211A73842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271-4462-4CE3-8C27-CDF4DF57C52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F2EC-D11A-47F5-8DFF-6201CD32B5E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0FA6-DE13-4DC1-9BC0-2D2B9187EA6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D74D-F489-4035-916A-05ABAD50464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DA4C-B4D9-415A-B999-6FB8D5992B9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5D2-28D4-4E1E-830F-CBF3F51A33C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9EEC-641B-41A3-82DF-A0B9E938184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A47-EC61-4B11-9A4A-FC5237B2E2A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868F-FDA9-4CA1-8982-349281CE438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5C46-3D45-4378-99A1-E5E856BCBC8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DED9-EEB0-4DAE-B179-E573ECDB91D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ED82-064C-4312-94FA-BA5A705F7AC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-</a:t>
            </a: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ambulatoryjnych w poradni medycyny paliatywnej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) porady i konsultacje lekarskie w poradni lub w domu świadczeniobiorcy, w tym również świadczeniobiorcy, który n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został zakwalifikowany do hospicjum domowego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2) porady psychologa w poradni lub w domu świadczeniobiorc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3) świadczenia pielęgniarskie w poradni lub w domu świadczeniobiorcy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3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C85-90B1-48AF-88A2-E768E573F8D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r>
              <a:rPr b="0" lang="pl-PL" sz="2800" spc="-1" strike="noStrike">
                <a:solidFill>
                  <a:srgbClr val="7030a0"/>
                </a:solidFill>
                <a:latin typeface="Candara"/>
              </a:rPr>
              <a:t>„ZDOLNOŚĆ KONTRAKTOWA”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5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A3C-C3EE-402F-A3B3-DB9CED6005F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rostokąt 6"/>
          <p:cNvSpPr/>
          <p:nvPr/>
        </p:nvSpPr>
        <p:spPr>
          <a:xfrm>
            <a:off x="344520" y="533556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862aa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52520" y="1989000"/>
          <a:ext cx="8929440" cy="3273480"/>
        </p:xfrm>
        <a:graphic>
          <a:graphicData uri="http://schemas.openxmlformats.org/drawingml/2006/table">
            <a:tbl>
              <a:tblPr/>
              <a:tblGrid>
                <a:gridCol w="1546200"/>
                <a:gridCol w="1752480"/>
                <a:gridCol w="1736640"/>
                <a:gridCol w="1946520"/>
                <a:gridCol w="1947600"/>
              </a:tblGrid>
              <a:tr h="81612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ody resortowe*/ 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, hospicjum domowe dla dzieci, 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, 2181, 2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4/4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w warunkach stacjonarnych – leki i wyroby medyczne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3)  transport sanitarny wg. określonych zasad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6208-CE00-4955-8779-4A57EFBB857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2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opieki paliatywnej i hospicyj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94F5-6007-4289-868B-B5F51E7792E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Candara"/>
              </a:rPr>
              <a:t>Wymagania</a:t>
            </a: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0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9E2-8940-43B9-A4EA-C2890A49DCF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oddziale medycyny paliatyw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/hospicjum stacjonarnym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7D4-CBFB-4329-8EB9-F6D05D9F5C5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5E67-2BE1-4F0D-ABCB-896428E67D4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704880" y="1596960"/>
          <a:ext cx="8497800" cy="428004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938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oddział medycyny paliatywnej/hospicjum stacjonar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65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2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opiekun medycz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631800" y="1728720"/>
          <a:ext cx="8424720" cy="4195800"/>
        </p:xfrm>
        <a:graphic>
          <a:graphicData uri="http://schemas.openxmlformats.org/drawingml/2006/table">
            <a:tbl>
              <a:tblPr/>
              <a:tblGrid>
                <a:gridCol w="5688000"/>
                <a:gridCol w="2736720"/>
              </a:tblGrid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- w miejscu udzielania świad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z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magana licz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łóżka szpitalne (zwykłe i łamane) o regulowanej wysokości, wyposażone w ruchome barierki zabezpieczające przed wypadnięci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godnie z rejestrem lub ofert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ace przeciwodleżyn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y sprzęt przeciwodleżynowy - w szczególnosci poduszki, podpórki, wał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zęt ułatwiający pielęgnację - zintegrowany system do higieny ciała, podnośnik, parawany, pasy ślizg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tor tlenu lub inne źródło tlen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3 łóż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k elektrycz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ala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k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araty do pomiaru ciśnienia tętniczego kr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py infuzyj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1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e, laski, balkoniki, wózki inwalidz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- w lok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C394-BF3C-4D0E-9E4C-8EEEFE6FFE3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5" descr=""/>
          <p:cNvPicPr/>
          <p:nvPr/>
        </p:nvPicPr>
        <p:blipFill>
          <a:blip r:embed="rId1"/>
          <a:stretch/>
        </p:blipFill>
        <p:spPr>
          <a:xfrm>
            <a:off x="1208160" y="1052640"/>
            <a:ext cx="72486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15440" y="220500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7EF-8556-4372-BBF1-290E214D44F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1) lekarz specjalista w dziedzinie medycyny paliatywnej, lub lekarz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w trakcie specjalizacji w dziedzinie medycyny paliatywnej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lub lekarz legitymujący się dokumentem ukończenia kursu zgod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z programem specjalizacji w dziedzinie medycyny paliatywnej, dotyczącego problematyki bólu, objawów somatycznych i psychicznych, organizowanego przez Centrum Medyczne Kształcenia Podyplomowego lub wyższą uczelnię medyczną posiadającą uprawnienia d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kształcenia przeddyplomowego lub podyplomowego lekarzy lub jednostkę posiadającą akredytację do prowadzenia specjalizacji w dziedzinie medycyny paliatywnej − </a:t>
            </a: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równoważnik 1 etatu przeliczeniowego na 10 łóżek</a:t>
            </a: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4DA-0CC6-4A64-97B4-8E2B150BC94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ielęgniark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a) ukończyła specjalizację w dziedzinie pielęgniarstwa opieki paliatywnej albo jest w trakcie tej specjalizacji lub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b) ukończyła kurs kwalifikacyjny w dziedzinie pielęgniarstwa opieki paliatywnej albo jest w trakcie tego kursu, lub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c) ukończyła kurs specjalistyczny w zakresie podstaw opieki paliatywnej albo jes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 trakcie tego kursu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co najmniej 25% czasu pracy ogółu pielęgniarek udzielających świadczeń u danego świadczeniodawc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A11-A7A6-446E-8A6C-DDDEABD11AA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- psycholog lub psycholog posiadający tytuł specjalisty w dziedzinie psychologii klinicznej, lub psychoonkolog, którym jest osoba z wykształceniem psychologicznym lub medycznym, która ukończyła studia wyższe i uzyskała tytuł magistra lub równorzędny oraz ukończyła studia podyplomowe z psychoonkologii </a:t>
            </a: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− równoważnik 1/2 etatu przeliczeniowego na 20 łóżek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9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7881-EF91-4810-81CD-14B6778EDCF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osoba, która: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a) rozpoczęła po dniu 30 września 2012 r. studia wyższe z zakresu fizjoterapii obejmujące co najmniej 2435 godzin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kształcenia w zakresie fizjoterapii i uzyskała tytuł licencjata lub dodatkowo co najmniej 1440 godzin kształceni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w zakresie fizjoterapii i uzyskała tytuł magistra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b) rozpoczęła po dniu 31 grudnia 1997 r. studia wyższe na kierunku fizjoterapia, zgodnie ze standardami kształceni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określonymi w odrębnych przepisach, i uzyskała tytuł licencjata lub magistra na tym kierunku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c) rozpoczęła przed dniem 1 stycznia 1998 r. studia wyższe na kierunku rehabilitacja ruchowa lub rehabilitacj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i uzyskała tytuł magistra na tym kierunku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d) rozpoczęła przed dniem 1 stycznia 1998 r. studia wyższe w Akademii Wychowania Fizycznego i uzyskała tytuł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magistra oraz ukończyła specjalizację I lub II stopnia w dziedzinie rehabilitacji ruchowej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e) rozpoczęła przed dniem 1 stycznia 1980 r. studia wyższe na kierunku wychowanie fizyczne i uzyskała tytuł magistr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na tym kierunku oraz ukończyła w ramach studiów dwuletnią specjalizację z zakresu gimnastyki leczniczej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lub rehabilitacji ruchowej potwierdzoną legitymacją instruktora rehabilitacji ruchowej lub gimnastyki leczniczej,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f) rozpoczęła przed dniem 1 stycznia 1980 r. studia wyższe na kierunku wychowanie fizyczne i uzyskała tytuł magistr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na tym kierunku oraz ukończyła 3-miesięczny kurs specjalizacyjny z rehabilitacji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g) ukończyła szkołę policealną publiczną lub niepubliczną o uprawnieniach szkoły publicznej i uzyskała tytuł zawodowy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technik fizjoterapii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1" lang="pl-PL" sz="1300" spc="-1" strike="noStrike">
                <a:solidFill>
                  <a:srgbClr val="ff0000"/>
                </a:solidFill>
                <a:latin typeface="Candara"/>
              </a:rPr>
              <a:t>równoważnik 1/4 etatu przeliczeniowego na 10 łóżek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2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A1D-CCCA-4CCB-9B2B-34B56770667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poczęła przed dniem 1 września 2012 r. i ukończyła zasadniczą szkołę zawodową publiczną lub niepubliczną o uprawnieniach szkoły publicznej oraz uzyskała dyplom potwierdzający kwalifikacje zawodowe w zawodzie opiekun medyczny lub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poczęła po dniu 31 sierpnia 2012 r. i ukończyła kwalifikacyjny kurs zawodowy oraz uzyskała świadectwo lub dyplom potwierdzający kwalifikacje w zawodzie opiekun medyczny lub ukończyła szkołę policealną publiczną lub niepubliczną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 uprawnieniach szkoły publicznej oraz uzyskała dyplom potwierdzający kwalifikacje zawodowe w zawodzie opiekun medyczny.”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5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D2B-2FA8-43D7-B379-215A993F655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nne warunki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całodobowy dostęp przez 7 dni w tygodniu do świadczeń opieki zdrowotnej udzielanych przez lekarza, o którym mowa w ust. 1 pkt 1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całodobowe świadczenia opieki zdrowotnej udzielane przez pielęgniarkę przez 7 dni w tygodni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8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F39-84C5-4B1F-8E5B-3EE9181E52A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hospicjum domowym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1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6D8-DAC5-4909-8826-13C1EE6FEFB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6826-801C-4927-92F5-C5C4E485B94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704880" y="2133720"/>
          <a:ext cx="8497800" cy="36082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492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hospicjum domo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3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3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Candara"/>
              </a:rPr>
              <a:t>hospicjum domowe/hospicjum domowe dla dzieci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631800" y="1728720"/>
          <a:ext cx="8424720" cy="3284640"/>
        </p:xfrm>
        <a:graphic>
          <a:graphicData uri="http://schemas.openxmlformats.org/drawingml/2006/table">
            <a:tbl>
              <a:tblPr/>
              <a:tblGrid>
                <a:gridCol w="5688000"/>
                <a:gridCol w="2736720"/>
              </a:tblGrid>
              <a:tr h="2556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z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magana licz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tor tlenu lub inne źródło tlen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1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k elektrycz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1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ala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k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araty do pomiaru ciśnienia tętniczego kr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py infuzyj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2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e, laski, balkoniki, wózki inwalidz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eser pielęgniar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każdej wykazanej w ofercie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9B6-A790-4A89-98D2-41DA4B2F3A0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Inne warunki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1) całodobowy dostęp przez 7 dni w tygodniu do świadczeń opieki zdrowotnej udzielanych przez lekarza, o którym mowa w ust. 1 pkt 1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2) porady lekarskie w zależności od potrzeb, nie rzadziej niż 2 w miesiącu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3) całodobowy dostęp przez 7 dni w tygodniu do świadczeń opieki zdrowotnej udzielanych przez pielęgniarkę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4) wizyty pielęgniarskie w zależności od potrzeb, nie rzadziej niż 2 w tygodniu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5) pozostały personel − porady lub wizyty ustalane indywidualnie przez lekarza, o którym mowa w ust. 1 pkt 1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6) świadczeniobiorcy dorosłemu mogą być udzielane świadczenia gwarantowane w ramach opieki paliatywnej dla dzieci, jeżeli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a) jednostka chorobowa ma charakter wrodzony lub choroba ograniczająca życie została zdiagnozowana przed ukończeniem przez świadczeniobiorcę 18. roku życia, a świadczeniobiorca korzystał ze świadczeń gwarantowanych realizowanych w hospicjum domowym dla dzieci do ukończenia 18. roku życia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b) nie istnieje możliwość odpowiedniego udzielania świadczeń gwarantowanych przez hospicja domowe dla dorosłych ze względu na rzadki charakter choroby lub miejsce zamieszk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0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6D4-0B45-452D-8A7C-F670D5E5324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44280" y="1628280"/>
            <a:ext cx="802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29 października 2013 r. w sprawie świadczeń gwarantowanych z zakresu opieki paliatywnej 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3 poz. 1347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31 stycznia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2017 r. zmieniające rozporządzenie w sprawie świadczeń gwarantowanych z zakresu opieki paliatyw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4a8a4"/>
                </a:solidFill>
                <a:latin typeface="Candara"/>
              </a:rPr>
              <a:t>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7 poz. 236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26EC-CEF0-40D2-A020-334AF1878B1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hospicjum domowym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dla dzieci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726D-30EC-4AE8-97E3-464EE6C7377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9BF0-F53D-4CB0-A79C-05FBFB8FEBC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704880" y="2133720"/>
          <a:ext cx="8497800" cy="36082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492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hospicjum domowe dla dzi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2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2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2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Perinatalna opieka paliatyw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9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00B-9AA3-46FD-B4CF-D4CF4C8AB02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3F24-B4E7-49D0-988E-DD98E8F8749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04880" y="2133720"/>
          <a:ext cx="8497800" cy="22240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506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inatalna opieka paliatyw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(kryteria oceny ofert co najmniej ¼ eta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(kryteria oceny ofert co najmniej ¼ eta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Inne warunki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1) pomieszczenie przystosowane do udzielania konsultacji lekarskich i psychologicznych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) współpraca ze świadczeniodawcą udzielającym świadczeń z zakresu położnictwa i ginekologii − trzeci poziom referencyjny oraz neonatologii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w warunkach leczenia szpitalnego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3) współpraca z położną podstawowej opieki zdrowotnej oraz lekarzem specjalistą w dziedzinie położnictwa i ginekologii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4) świadczeniodawca realizujący świadczenie gwarantowane w warunkach perinatalnej opieki paliatywnej posiada co najmniej trzyletnie doświadczenie w pracy w pediatrycznej opiece paliatywnej w zakresie hospicjum domowego dla dzieci lub hospicjum stacjonarnego lub współpracuje z ośrodkiem mającym doświadczenie w pracy w pediatrycznej opiece paliatywnej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5) świadczenie gwarantowane w warunkach perinatalnej opieki paliatywnej jest realizowane do 28. dnia po porodz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5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89F-3FB6-425F-A3B2-2FEA5224016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Poradnia medycyny paliatyw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8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3739-BEE5-4A49-806A-7DA4B349B3E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57DF-0798-4013-8D09-835FABB250A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704880" y="2133720"/>
          <a:ext cx="8497800" cy="277812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600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oradnia medycyny paliatyw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06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ganizacja pracy poradni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radnia jest czynna co najmniej 3 dn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tygodniu po 2,5 godziny dziennie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tym 1 dzień w godzinach popołudniowych − do godziny 18:00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5601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ne warunki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) świadczenia gwarantowane w warunkach ambulatoryjnych są przeznaczone dla świadczeniobiorców, których sta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gólny jest stabilny oraz którzy mogą przybyć do poradni medycyny paliatywnej sami lub którzy ze względu na ograniczon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poruszania się wymagają porad lub wizyt w domu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) świadczenia gwarantowane w warunkach ambulatoryjnych obejmują nie więcej niż 2 porady lub wizyty w tygodniu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mu świadczeniobiorcy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PUNKTÓW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hospicjum domowe 1 punkt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944280" y="1628280"/>
            <a:ext cx="802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bwieszczenie Ministra Zdrowia w sprawie ogłoszenia jednolitego tekstu rozporządzenia Ministra Zdrowia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świadczeń gwarantowanych z zakresu opieki paliatywnej 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z 2018 r. poz. 742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12 czerwca 2018 r. zmieniające rozporządzenie w sprawie świadczeń gwarantowanych z zakresu opieki paliatyw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8 poz. 1185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905E-7E14-40F0-BFFB-EB6E01EC1DD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UWAGA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W przypadku wykazania w oferci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lekarza legitymującego się dokumentem ukończenia kursu zgodnego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programem specjalizacji w dziedzinie medycyny paliatywnej, dotyczącego problematyki bólu, objawów somatycznych i psychicznych, organizowanego przez Centrum Medyczne Kształcenia Podyplomowego lub wyższą uczelnię medyczną posiadającą uprawnienia do kształcenia przeddyplomowego lub podyplomowego lekarzy lub jednostkę posiadającą akredytację do prowadzenia specjalizacji w dziedzinie medycyny paliatywnej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Należy wskazać  kompetencje o kodz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0312</a:t>
            </a: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 – kurs zgodny z programem specjalizacji w dziedzinie medycyny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             paliatywnej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7E8-0EAA-41D1-8C56-52542359F16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2880" y="1341000"/>
            <a:ext cx="936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UWAGA!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ewidencjonowanie kompetencji pielęgniarskich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kurs kwalifikacyjny w dziedzinie pielęgniarstwa opieki paliatywnej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(kompetencja: 0010 – pielęgniarstwo opieki paliatywnej – kurs kwalifikacyjny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kurs specjalistyczny z zakresu podstaw opieki paliatywnej albo jest </a:t>
            </a:r>
            <a:br>
              <a:rPr sz="2200"/>
            </a:b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w trakcie tego kursu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(kompetencja: 0311 – pielęgniarstwo opieki paliatywnej – kurs specjalistyczny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w przypadku wykazywania w ofercie pielęgniarek, będących w trakcie uzyskiwania wymaganych kwalifikacji  należy wskazać kompetencję </a:t>
            </a:r>
            <a:br>
              <a:rPr sz="2200"/>
            </a:b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o kodzie: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0303 - pielęgniarka w trakcie szkolenia specjalizacyjnego/kursu kwalifikacyjnego/kursu specjalistyczneg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3784-81B4-449F-BC92-4A1B6E5BB38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1539-0B18-455D-B349-FC6E015A1C2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560520" y="1700280"/>
          <a:ext cx="8856360" cy="4465440"/>
        </p:xfrm>
        <a:graphic>
          <a:graphicData uri="http://schemas.openxmlformats.org/drawingml/2006/table">
            <a:tbl>
              <a:tblPr/>
              <a:tblGrid>
                <a:gridCol w="1935000"/>
                <a:gridCol w="1360440"/>
                <a:gridCol w="1733760"/>
                <a:gridCol w="1734840"/>
                <a:gridCol w="2092320"/>
              </a:tblGrid>
              <a:tr h="6634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76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g harmonogramu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3 dni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 po 2,5 godzinny dziennie,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1 dzień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popołudniowych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do godziny 18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talony harmonogram pracy komórki (miejsca udzielanie świadczeń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ryteria oceny ofert dostępność personelu co najmniej ¼ etatu tj. 10 godzin tygodniow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744-A9BE-4601-9AC6-F80EAD4109F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415800" y="1413000"/>
          <a:ext cx="9001080" cy="4564080"/>
        </p:xfrm>
        <a:graphic>
          <a:graphicData uri="http://schemas.openxmlformats.org/drawingml/2006/table">
            <a:tbl>
              <a:tblPr/>
              <a:tblGrid>
                <a:gridCol w="1595520"/>
                <a:gridCol w="1809720"/>
                <a:gridCol w="1792440"/>
                <a:gridCol w="1793880"/>
                <a:gridCol w="2009520"/>
              </a:tblGrid>
              <a:tr h="5680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rozbiciu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dni tygo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godn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harmonogramem pracy pora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arze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rmonogram godzinowy w rozbiciu na dni tygo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ryteria oceny ofert dostępność personelu co najmniej ¼ eta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olodzy -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15800" y="2205000"/>
            <a:ext cx="9074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ZARZĄDZENIA  PREZES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przedmiot postępowania w sprawie zawarcia umowy </a:t>
            </a:r>
            <a:br>
              <a:rPr sz="2600"/>
            </a:b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szczegółowe warunki umowy o udzielanie świadczeń opieki zdrowotnej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41F-9B71-454A-A2B1-09B543BFF7F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wrześni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Zarządzenie Nr 74/2018/DSOZ Prezesa  Narodowego Funduszu Zdrowia z dnia 31 lipca 2018 r. </a:t>
            </a:r>
            <a:br>
              <a:rPr sz="2600"/>
            </a:b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w sprawie określenia warunków zawierania i realizacji umów </a:t>
            </a:r>
            <a:br>
              <a:rPr sz="2600"/>
            </a:b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w rodzaju opieka paliatywna i hospicyjna,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EE0-93BE-4C1C-AFE9-7EFF2E5FA22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 świadczeń w opiece paliatywnej i hospicyj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935A-F6B7-42B3-8D16-E74E1383267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AEB8-E1A4-494E-B0F4-37FC98285C2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344520" y="1413000"/>
          <a:ext cx="9361440" cy="5383080"/>
        </p:xfrm>
        <a:graphic>
          <a:graphicData uri="http://schemas.openxmlformats.org/drawingml/2006/table">
            <a:tbl>
              <a:tblPr/>
              <a:tblGrid>
                <a:gridCol w="504720"/>
                <a:gridCol w="2190960"/>
                <a:gridCol w="1068120"/>
                <a:gridCol w="981360"/>
                <a:gridCol w="1498320"/>
                <a:gridCol w="1206720"/>
                <a:gridCol w="1204920"/>
                <a:gridCol w="706320"/>
              </a:tblGrid>
              <a:tr h="277560">
                <a:tc gridSpan="6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talog  świadczeń w opiece paliatywnej i hospicyjne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Nazwa zakresu świadcze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Kod zakresu świadcze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Jednostka rozliczeniowa zakresu świadcze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Nazwa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Kod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waga punktowa</a:t>
                      </a:r>
                      <a:br>
                        <a:rPr sz="1000"/>
                      </a:b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Taryfa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oddziale medycyny paliatywnej / hospicjum stacjonarn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4180.02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6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 dla pacjentów żywionych dojelito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7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 dla pacjentów żywionych pozajelito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9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hospicjum domow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0.02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hospicjum domow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hospicjum domowym dla dzie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1.02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hospicjum domowym dla dzie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a w poradni medycyny paliatywn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1180.00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a w poradni medycyny paliatywn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erinatalna opieka paliatywna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1.028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y i konsultacje lekarskie oraz psychologiczne wraz z koordynację opie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4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 gridSpan="8"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* uwzględniona na podstawie załącznika do Obwieszczenia Prezesa Agencji Oceny Technologii Medycznej i Taryfikacji z dnia 29 czerwca 2016 r. w  sprawie taryf świadczeń gwarantowanych w rodzaju opieka paliatywna i hospicyjna.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Taryfy zostały ustalone w odniesieniu do świadczenia bazowego, tj. osobodzień w hospicjum domowym, któremu przyporządkowano wartość równą 1 punkt.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** świadczenie rozliczane za kompleksową opiekę, liczba porad i konsultacji dostosowana do potrzeb dziecka i rodzi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200160" y="2674440"/>
            <a:ext cx="9432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b87d6"/>
                </a:solidFill>
                <a:latin typeface="Candara"/>
              </a:rPr>
              <a:t>Wzory oświadczeń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0DB-4313-4B2A-AA60-EE323377EA0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92160" y="1483920"/>
            <a:ext cx="8026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domowych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) ambulatoryjnych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4) perinatalnej opieki paliatywnej – w ośrodku diagnostyki prenatalnej, w ośrodku kardiologii prenatalnej, w zakładzie genetyki, w poradni medycyny paliatywnej, w hospicjum domowym dla dzieci lub w hospicjum stacjonarnym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buClr>
                <a:srgbClr val="31b6fd"/>
              </a:buClr>
              <a:buFont typeface="Candar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03A-CCBA-4468-ADC8-7C296C3A3EE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8BEA-9D0A-45A8-96A9-E340DB0F51C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2" descr=""/>
          <p:cNvPicPr/>
          <p:nvPr/>
        </p:nvPicPr>
        <p:blipFill>
          <a:blip r:embed="rId1"/>
          <a:stretch/>
        </p:blipFill>
        <p:spPr>
          <a:xfrm>
            <a:off x="2079720" y="333360"/>
            <a:ext cx="574668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2D2-3DCD-43B8-BE19-C0019F58028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tretch/>
        </p:blipFill>
        <p:spPr>
          <a:xfrm>
            <a:off x="2079720" y="115920"/>
            <a:ext cx="57466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0AA-D1B9-4EC4-B390-247E3B47490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2079720" y="403200"/>
            <a:ext cx="574668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4C35-07E1-407A-B522-0F59FB2C8C9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9720" y="442800"/>
            <a:ext cx="57466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5B42-AF5D-4F3F-84F1-5033338EBA6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079720" y="333360"/>
            <a:ext cx="5746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18B-357A-49A8-A723-C34CC762175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2" descr=""/>
          <p:cNvPicPr/>
          <p:nvPr/>
        </p:nvPicPr>
        <p:blipFill>
          <a:blip r:embed="rId1"/>
          <a:stretch/>
        </p:blipFill>
        <p:spPr>
          <a:xfrm>
            <a:off x="2079720" y="1442880"/>
            <a:ext cx="57466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988" name="Picture 2" descr=""/>
          <p:cNvPicPr/>
          <p:nvPr/>
        </p:nvPicPr>
        <p:blipFill>
          <a:blip r:embed="rId1"/>
          <a:stretch/>
        </p:blipFill>
        <p:spPr>
          <a:xfrm>
            <a:off x="1449360" y="4019400"/>
            <a:ext cx="7016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orada w poradni medycyny paliatywnej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1180.007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0.027.02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hospicjum domowym dla dzieci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1.027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oddziale medycyny paliatywnej/hospicjum stacjonarnym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4180.021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3d3fe"/>
                </a:solidFill>
                <a:latin typeface="Candara"/>
              </a:rPr>
              <a:t>5.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erinatalna opieka paliatywna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1.028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72880" y="1052640"/>
            <a:ext cx="9288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stacjonarnych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) świadczenia opieki zdrowotnej udzielane przez lekarz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2) świadczenia opieki zdrowotnej udzielane przez pielęgniarki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3) leczenie farmakologiczne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4) leczenie bólu zgodnie z wytycznymi Światowej Organizacji Zdrowia (drabina analgetyczna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5) leczenie innych objawów somatycz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6) opiekę psychologiczną nad świadczeniobiorcą i jego rodzin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7) rehabilitacj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8) zapobieganie powikłaniom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9) badania zlecone przez lekarza zatrudnionego w hospicjum stacjonarnym lub oddziale medycyny paliatywn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0) zaopatrzenie w wyroby medyczne konieczne do wykonania świadczenia gwarantowanego w hospicjum stacjonarnym lub w oddziale medycyny paliatywn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1) opiekę wyręczającą obejmującą przyjmowanie świadczeniobiorców do hospicjum stacjonarnego lub oddziału medycyny paliatywnej na okres nie dłuższy niż 10 dn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34D-70E5-4F7C-A788-FAC89360EDE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domowych obejmują 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świadczenia opieki zdrowotnej udzielane przez lekarzy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świadczenia opieki zdrowotnej udzielane przez pielęgniarki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leczenie bólu zgodnie z wytycznymi Światowej Organizacji Zdrowia (drabina analgetyczna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leczenie innych objawów somatyczny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opiekę psychologiczną nad świadczeniobiorcą i jego rodziną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rehabilitację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zapobieganie powikłaniom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oraz </a:t>
            </a:r>
            <a:r>
              <a:rPr b="0" lang="pl-PL" sz="1800" spc="-1" strike="noStrike" u="sng">
                <a:solidFill>
                  <a:srgbClr val="073e87"/>
                </a:solidFill>
                <a:uFillTx/>
                <a:latin typeface="Candara"/>
              </a:rPr>
              <a:t>badania zlecone przez lekarza zatrudnionego w hospicjum domowym dla dorosłych </a:t>
            </a:r>
            <a:br>
              <a:rPr sz="1800"/>
            </a:b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lub dla dzieci do ukończenia 18 roku życia, </a:t>
            </a:r>
            <a:r>
              <a:rPr b="0" lang="pl-PL" sz="1800" spc="-1" strike="noStrike" u="sng">
                <a:solidFill>
                  <a:srgbClr val="073e87"/>
                </a:solidFill>
                <a:uFillTx/>
                <a:latin typeface="Candara"/>
              </a:rPr>
              <a:t>ordynację leków i bezpłatne wypożyczanie przez hospicja domowe wyrobów medycznych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 wymienionych w ust. 3 części II załącznika nr 2 </a:t>
            </a:r>
            <a:br>
              <a:rPr sz="1800"/>
            </a:b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do rozporządze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C62-CC2F-4833-9AFB-41F96B59A94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perinatalnej opieki paliatywnej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porady i konsultacje lekarskie w poradni medycyny paliatywnej, hospicjum domowym dla dzieci lub hospicjum stacjonarnym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porady psychologa w poradni medycyny paliatywnej, w hospicjum domowym dla dzieci lub w hospicjum stacjonarnym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3) koordynację opieki przez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zapewnienie współpracy ze świadczeniodawcą udzielającym świadczeń z zakresu położnictwa i ginekologii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neonatologii, w warunkach leczenia szpitalnego lub porady specjalistycznej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zapewnienie współpracy z hospicjum domowym dla dzieci lub z hospicjum stacjonarnym, pozwalającej na zachowanie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iągłości opieki nad dzieckiem w przypadku zaistnienia możliwości wypisu z oddziału, na którym przebywa dziecko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zapewnienie współpracy z ośrodkiem diagnostyki prenatalnej, ośrodkiem kardiologii prenatalnej lub zakład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enetyki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poinformowanie rodziców dziecka o możliwości pożegnania się ze zmarłym dzieckiem oraz o sposobie pochówku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przekazanie informacji dotyczących postępowania w przypadku zgonu dziecka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zapewnienie ciągłości leczenia stosownie do stanu zdrowia, po zakończeniu realizacji świadczenia gwarantowaneg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w warunkach perinatalnej opieki paliatywnej, w tym w uzasadnionych przypadkach opiekę paliatywną p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urodzeniu dziecka oraz wsparcie w żałobie po śmierci dziecka przez udział w grupie wsparcia w żałobi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BE38-7605-42AE-8415-A2BE65C8FF6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58Z</dcterms:modified>
  <cp:revision>1250</cp:revision>
  <dc:subject/>
  <dc:title>Slajd 1</dc:title>
</cp:coreProperties>
</file>